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12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2D56-6B72-4434-BEBE-AECB1864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BDB0-B297-413C-8D28-F1705CD0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6C1C-D216-4BC5-9AA1-5F9540A9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4070-0A62-4633-A5F4-ABEA51BA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3625-48C0-46D1-9C02-C3AA25E7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A556-4418-45CA-87A8-E56CA3E4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025F-A981-4959-99C6-D173E8FA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BC0F-7F59-41BD-B166-9B5F068D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0D51-0D35-40E5-A18C-5876A25A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5BC9-7C92-4273-BFBA-30FEC5BC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0B17-118E-42F3-B9AE-74E31808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1A9C-1134-4B5B-A707-126C6692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843F-59CA-4DF3-A6FC-88AFA525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877B-7A5C-4EA2-A78E-4A073A74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CE8A-7348-4D64-A7C4-D201A1E2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2CED-D071-40CC-AA77-2931A17B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3C76-0C03-43A5-B4D5-40B6948C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E4DA2-B167-4FD0-8B2F-296C1070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175E6A-2AAB-4048-BEA4-C7BD2CB8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AA143-21DB-4D38-9793-4B5C8AE1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C9856E-9CFA-41C2-926D-E175640C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D1E567-E5A9-45A6-8DAE-C4F8AB15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3BCC-E026-4DD8-8F11-E1C54B53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50DAA-68A6-45B1-8CE6-131CE2FB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F40D7-3592-4DFC-8ED6-AB35E312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CC30D-1187-4B6C-B834-9156CC76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1F5052-7E03-4807-AA8B-8EF64F8E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1C8B13-10B3-41FD-926F-CE76F450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488116-7EDD-4D0F-AA9A-3938CB67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C17289-BAC8-4FB6-8B65-AAC1D793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7020A-9E1E-486F-9175-844AEEDC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27EB6-7D4D-4A4B-832A-ECA701EB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E72E5-3BD1-4460-8382-4459ADE8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2393-E102-4ABF-A5C4-27CEA89A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421A8-ED1A-4FFD-8DFF-F5555497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568E8-57F3-4A0F-A6EE-54DE3193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9B9CA-66F6-4A2C-B15C-7976395A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A5FF8-2CB6-4061-B57A-5D17AAAB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EDC18-B965-4470-B461-2BF0F04C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23DA7-C06D-45AA-91D7-F9BE8811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46FF9-FE11-468E-8378-2656B5EE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9D575-EBDD-419D-B48A-A64DB2F0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5519C-EDA9-46EC-91D7-F5D0B6A0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1206D2-00BB-42E0-AECA-6D9E4139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56DD-DAA5-468E-A1B1-C0A76C52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CAB09B-B9B9-4F8C-A643-FEFB115E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64D3A9-D3B4-4BC3-9709-FF0D41DC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3F85FC-5D7C-4229-A798-E8261231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39F92E-40E4-4553-8BDE-377AD355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11EE1B-12AF-49F4-9495-3AF9B8AE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65CA05-2FBD-4429-A34D-ADC544DA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CF2672-D2DB-4FCB-B0E9-D60ACF23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557C8B-C989-430F-898D-375A0CB7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72C082-EB74-4291-A2FB-65CFEB0D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A54FFE-6CC9-46FF-8C0B-DBBB1618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EE0-A6E7-4E1F-B46D-F07DA0E0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902A9A-190C-47F3-9852-2CCD36AC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A14A64-C5B5-49E4-A543-673C53CD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2A196D-6E1F-4920-B7C3-5168B02F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25966B-21CD-49D8-AA62-B87562A2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C05757-6A1A-4B5E-AAA0-3D8E350C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84ADCF-5D30-42A2-89F6-095B0C4C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5BFD37-E497-463B-925F-009A1C9A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BE3F91-C964-482B-B946-E2EB58B3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C8D35C-B816-40AB-8592-4D43B573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DA425C-925C-4C39-865B-BC8E5439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6F92-1135-4EB9-A4CF-AE140904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D16519-6FF7-49B6-8AAA-EFA1F5D2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AA7E8D-DC10-4FFE-A511-56CD4EC4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DAABE8-600C-4373-8B01-40158E86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E36A7B-820C-4F8C-B2F9-C4D680B7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374DB6-BE15-4B09-9039-0E53668F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DF453C-D6FD-4173-9AE1-B588D20F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DD9362-8D4C-4A30-B260-B4993F9E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AF5E28-6EFB-4F30-A992-3E0F8367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FAF228-7488-473E-9AC4-D5FE40FA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A610D2-87DB-45C1-943F-7D65C080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82D0-3E4C-492E-A0BE-CFF0FAA5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FCBF98-09F4-4F04-B3C3-58A66C39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EDE503-F563-4DE0-8B60-C07FB928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650F89-7915-49E2-8B6B-50779685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148FEC-1A18-4445-A82F-D9354ACB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AC9685-6249-46BA-AC20-8E10C7F9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A7BD-E3E7-46D9-A690-9B8661FF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C3DE-3B1F-497A-B720-8930080DE11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BB46-7A51-44B1-97FB-5C5E52C2203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0A01-761D-4B81-9322-27D1B8574F4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62E3-2244-443E-A98D-DFF7F03B13E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BFEB-085E-4506-A5A0-90085E1B2E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2CAA-C65B-42B1-8F2F-C16C8EF02EC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E34F-40AF-4F8F-BA34-35968B082B7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2120760" y="371520"/>
            <a:ext cx="6364440" cy="12380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2142720" y="1785600"/>
            <a:ext cx="61722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575f6d"/>
                </a:solidFill>
                <a:latin typeface="Century Schoolbook"/>
              </a:rPr>
              <a:t>Dragi copii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575f6d"/>
                </a:solidFill>
                <a:latin typeface="Century Schoolbook"/>
              </a:rPr>
              <a:t>Cartea vă este prieten şi partener în pasionanta aventură a vieţii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575f6d"/>
                </a:solidFill>
                <a:latin typeface="Century Schoolbook"/>
              </a:rPr>
              <a:t>Veţi pătrunde, treptat, în universul cuvântului rostit şi scris. Obervând, folosindu-vă cunoştinţele şi imaginaţia, jucându-vă şi exersând, veţi ajunge la un stil personal de a lucra şi de a gândi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575f6d"/>
                </a:solidFill>
                <a:latin typeface="Century Schoolbook"/>
              </a:rPr>
              <a:t>Veţi înţelege tainele de dincolo de cuvinte, descoperindu-vă pe voi înşivă într-o lumină poate necunoscută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5-Point Star 7"/>
          <p:cNvSpPr/>
          <p:nvPr/>
        </p:nvSpPr>
        <p:spPr>
          <a:xfrm rot="10064400">
            <a:off x="7802640" y="108720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5" descr="ed9ed48b9daf71d4d51551df8f3bed6c-d2xetc0.jpg"/>
          <p:cNvPicPr/>
          <p:nvPr/>
        </p:nvPicPr>
        <p:blipFill>
          <a:blip r:embed="rId1"/>
          <a:stretch/>
        </p:blipFill>
        <p:spPr>
          <a:xfrm>
            <a:off x="317520" y="963720"/>
            <a:ext cx="3011400" cy="30049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28840" y="428760"/>
            <a:ext cx="747216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700" spc="-1" strike="noStrike">
                <a:solidFill>
                  <a:srgbClr val="575f6d"/>
                </a:solidFill>
                <a:latin typeface="Century Schoolbook"/>
              </a:rPr>
              <a:t>,,</a:t>
            </a: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NUMAI POETUL,</a:t>
            </a:r>
            <a:br>
              <a:rPr sz="1800"/>
            </a:b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CA PASĂRI CE ZBOARĂ </a:t>
            </a:r>
            <a:br>
              <a:rPr sz="1800"/>
            </a:b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DEASUPRA VALURILOR, </a:t>
            </a:r>
            <a:br>
              <a:rPr sz="1800"/>
            </a:b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TRECE PESTE NEMĂRGINIREA TIMPULUI:</a:t>
            </a:r>
            <a:br>
              <a:rPr sz="1800"/>
            </a:b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ÎN RAMURILE GÂNDULUI,</a:t>
            </a:r>
            <a:br>
              <a:rPr sz="1800"/>
            </a:b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ÎN SFINTELE LUNCI,</a:t>
            </a:r>
            <a:br>
              <a:rPr sz="1800"/>
            </a:b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UNDE PASĂRI CA EL</a:t>
            </a:r>
            <a:br>
              <a:rPr sz="1800"/>
            </a:b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SE-NTREC ÎN CÂNTĂRI.</a:t>
            </a:r>
            <a:r>
              <a:rPr b="1" i="1" lang="en-US" sz="1800" spc="-1" strike="noStrike">
                <a:solidFill>
                  <a:srgbClr val="575f6d"/>
                </a:solidFill>
                <a:latin typeface="Century Schoolbook"/>
              </a:rPr>
              <a:t>”</a:t>
            </a:r>
            <a:br>
              <a:rPr sz="1800"/>
            </a:b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                                                </a:t>
            </a:r>
            <a:r>
              <a:rPr b="1" lang="ro-RO" sz="1800" spc="-1" strike="noStrike">
                <a:solidFill>
                  <a:srgbClr val="575f6d"/>
                </a:solidFill>
                <a:latin typeface="Century Schoolbook"/>
              </a:rPr>
              <a:t>(MIHAI EMINESCU – </a:t>
            </a: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NUMAI POETUL...)</a:t>
            </a:r>
            <a:br>
              <a:rPr sz="2700"/>
            </a:br>
            <a:r>
              <a:rPr b="1" i="1" lang="ro-RO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999720" y="3714480"/>
            <a:ext cx="711036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entury Schoolbook"/>
              </a:rPr>
              <a:t>Cum expicaţi, în versurile de mai sus, compararea potului cu </a:t>
            </a:r>
            <a:r>
              <a:rPr b="0" i="1" lang="ro-RO" sz="2000" spc="-1" strike="noStrike">
                <a:solidFill>
                  <a:srgbClr val="000000"/>
                </a:solidFill>
                <a:latin typeface="Century Schoolbook"/>
              </a:rPr>
              <a:t>pasări ce zboară deasupra valurilor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entury Schoolbook"/>
              </a:rPr>
              <a:t>Care sunt </a:t>
            </a:r>
            <a:r>
              <a:rPr b="0" i="1" lang="ro-RO" sz="2000" spc="-1" strike="noStrike">
                <a:solidFill>
                  <a:srgbClr val="000000"/>
                </a:solidFill>
                <a:latin typeface="Century Schoolbook"/>
              </a:rPr>
              <a:t>cântările poetului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entury Schoolbook"/>
              </a:rPr>
              <a:t>Prin ce rămâne acesta în </a:t>
            </a:r>
            <a:r>
              <a:rPr b="0" i="1" lang="ro-RO" sz="2000" spc="-1" strike="noStrike">
                <a:solidFill>
                  <a:srgbClr val="000000"/>
                </a:solidFill>
                <a:latin typeface="Century Schoolbook"/>
              </a:rPr>
              <a:t>nemărginirea timpului</a:t>
            </a:r>
            <a:r>
              <a:rPr b="0" lang="ro-RO" sz="2000" spc="-1" strike="noStrike">
                <a:solidFill>
                  <a:srgbClr val="000000"/>
                </a:solidFill>
                <a:latin typeface="Century Schoolbook"/>
              </a:rPr>
              <a:t>, adică în veşnicie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5-Point Star 3"/>
          <p:cNvSpPr/>
          <p:nvPr/>
        </p:nvSpPr>
        <p:spPr>
          <a:xfrm rot="1203000">
            <a:off x="771120" y="1285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7480440" cy="11588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are este mijlocul cel mai vechi prin care creaţia scriitorilor şi a savanţilor este transmisă generaţiilor viitoar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Cunoaşteţi şi alte mijloace folosite în acest scop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Pot cărţile schimba lume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5-Point Star 3"/>
          <p:cNvSpPr/>
          <p:nvPr/>
        </p:nvSpPr>
        <p:spPr>
          <a:xfrm rot="17961600">
            <a:off x="450360" y="6649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4" descr="A_rain_of_books_by_chocothemonkey.jpg"/>
          <p:cNvPicPr/>
          <p:nvPr/>
        </p:nvPicPr>
        <p:blipFill>
          <a:blip r:embed="rId2"/>
          <a:stretch/>
        </p:blipFill>
        <p:spPr>
          <a:xfrm>
            <a:off x="5194440" y="3193920"/>
            <a:ext cx="2547720" cy="33354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C:\Documents and Settings\Rall\Local Settings\Temporary Internet Files\Content.IE5\SZK1KRYT\dglxasset[3].aspx"/>
          <p:cNvPicPr/>
          <p:nvPr/>
        </p:nvPicPr>
        <p:blipFill>
          <a:blip r:embed="rId3"/>
          <a:stretch/>
        </p:blipFill>
        <p:spPr>
          <a:xfrm>
            <a:off x="928800" y="3929040"/>
            <a:ext cx="2786040" cy="2405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706320" y="706320"/>
            <a:ext cx="7480440" cy="1586160"/>
          </a:xfrm>
          <a:prstGeom prst="rect">
            <a:avLst/>
          </a:prstGeom>
          <a:ln w="0">
            <a:noFill/>
          </a:ln>
        </p:spPr>
      </p:pic>
      <p:pic>
        <p:nvPicPr>
          <p:cNvPr id="364" name="Content Placeholder 3" descr="copertajianu_mic.jpg"/>
          <p:cNvPicPr/>
          <p:nvPr/>
        </p:nvPicPr>
        <p:blipFill>
          <a:blip r:embed="rId2"/>
          <a:stretch/>
        </p:blipFill>
        <p:spPr>
          <a:xfrm>
            <a:off x="2071800" y="2500200"/>
            <a:ext cx="4929120" cy="3351240"/>
          </a:xfrm>
          <a:prstGeom prst="rect">
            <a:avLst/>
          </a:prstGeom>
          <a:ln w="0">
            <a:noFill/>
          </a:ln>
        </p:spPr>
      </p:pic>
      <p:cxnSp>
        <p:nvCxnSpPr>
          <p:cNvPr id="365" name="Straight Arrow Connector 5"/>
          <p:cNvCxnSpPr/>
          <p:nvPr/>
        </p:nvCxnSpPr>
        <p:spPr>
          <a:xfrm>
            <a:off x="1318680" y="2687400"/>
            <a:ext cx="1429560" cy="5720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66" name="Rectangle 7"/>
          <p:cNvSpPr/>
          <p:nvPr/>
        </p:nvSpPr>
        <p:spPr>
          <a:xfrm>
            <a:off x="214200" y="2071800"/>
            <a:ext cx="1357560" cy="64296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7" name="Straight Arrow Connector 9"/>
          <p:cNvCxnSpPr/>
          <p:nvPr/>
        </p:nvCxnSpPr>
        <p:spPr>
          <a:xfrm flipH="1">
            <a:off x="6571440" y="2286000"/>
            <a:ext cx="1143720" cy="3578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68" name="Rectangle 10"/>
          <p:cNvSpPr/>
          <p:nvPr/>
        </p:nvSpPr>
        <p:spPr>
          <a:xfrm>
            <a:off x="7500960" y="1714680"/>
            <a:ext cx="1143000" cy="5713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9" name="Straight Arrow Connector 12"/>
          <p:cNvCxnSpPr/>
          <p:nvPr/>
        </p:nvCxnSpPr>
        <p:spPr>
          <a:xfrm flipH="1" flipV="1">
            <a:off x="6490440" y="5002920"/>
            <a:ext cx="107244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70" name="Rectangle 15"/>
          <p:cNvSpPr/>
          <p:nvPr/>
        </p:nvSpPr>
        <p:spPr>
          <a:xfrm>
            <a:off x="7572240" y="4643280"/>
            <a:ext cx="1071720" cy="64296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1" name="Straight Arrow Connector 17"/>
          <p:cNvCxnSpPr/>
          <p:nvPr/>
        </p:nvCxnSpPr>
        <p:spPr>
          <a:xfrm>
            <a:off x="4535640" y="5851080"/>
            <a:ext cx="180000" cy="2214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72" name="Rectangle 18"/>
          <p:cNvSpPr/>
          <p:nvPr/>
        </p:nvSpPr>
        <p:spPr>
          <a:xfrm>
            <a:off x="3929040" y="6215040"/>
            <a:ext cx="1714680" cy="5000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066680" y="781200"/>
            <a:ext cx="7010640" cy="2011320"/>
          </a:xfrm>
          <a:prstGeom prst="rect">
            <a:avLst/>
          </a:prstGeom>
          <a:ln w="0">
            <a:noFill/>
          </a:ln>
        </p:spPr>
      </p:pic>
      <p:pic>
        <p:nvPicPr>
          <p:cNvPr id="374" name="Content Placeholder 4" descr="f702f22Povesti-cu-printese--cop.we.jpg"/>
          <p:cNvPicPr/>
          <p:nvPr/>
        </p:nvPicPr>
        <p:blipFill>
          <a:blip r:embed="rId2"/>
          <a:stretch/>
        </p:blipFill>
        <p:spPr>
          <a:xfrm>
            <a:off x="571680" y="2857680"/>
            <a:ext cx="2616120" cy="3230280"/>
          </a:xfrm>
          <a:prstGeom prst="rect">
            <a:avLst/>
          </a:prstGeom>
          <a:ln w="0">
            <a:noFill/>
          </a:ln>
        </p:spPr>
      </p:pic>
      <p:sp>
        <p:nvSpPr>
          <p:cNvPr id="375" name="5-Point Star 6"/>
          <p:cNvSpPr/>
          <p:nvPr/>
        </p:nvSpPr>
        <p:spPr>
          <a:xfrm>
            <a:off x="4286160" y="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5" descr="ImaginiFugare.jpg"/>
          <p:cNvPicPr/>
          <p:nvPr/>
        </p:nvPicPr>
        <p:blipFill>
          <a:blip r:embed="rId3"/>
          <a:stretch/>
        </p:blipFill>
        <p:spPr>
          <a:xfrm>
            <a:off x="3500280" y="3071880"/>
            <a:ext cx="1828800" cy="28177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23300_0_1256287256.jpg"/>
          <p:cNvPicPr/>
          <p:nvPr/>
        </p:nvPicPr>
        <p:blipFill>
          <a:blip r:embed="rId4"/>
          <a:stretch/>
        </p:blipFill>
        <p:spPr>
          <a:xfrm>
            <a:off x="5786280" y="2714760"/>
            <a:ext cx="24321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0720" y="566640"/>
            <a:ext cx="7480440" cy="13654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857160" y="2071800"/>
            <a:ext cx="742968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ro-RO" sz="1600" spc="-1" strike="noStrike">
                <a:solidFill>
                  <a:srgbClr val="000000"/>
                </a:solidFill>
                <a:latin typeface="Century Schoolbook"/>
              </a:rPr>
              <a:t>otează, în spaţiile corespunzătoare din casetele următoare, numele tău (ca autor), titlul cărţii şi alte elemente de identificare a volumului care pot apărea pe coperta I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entury Schoolbook"/>
              </a:rPr>
              <a:t>Alege o culoare pentru copertă sau ilustraţii adecvate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5-Point Star 4"/>
          <p:cNvSpPr/>
          <p:nvPr/>
        </p:nvSpPr>
        <p:spPr>
          <a:xfrm>
            <a:off x="357120" y="56437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Flowchart: Predefined Process 5"/>
          <p:cNvSpPr/>
          <p:nvPr/>
        </p:nvSpPr>
        <p:spPr>
          <a:xfrm>
            <a:off x="2571840" y="3357720"/>
            <a:ext cx="3286080" cy="3286080"/>
          </a:xfrm>
          <a:prstGeom prst="flowChartPredefined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3143160" y="3500280"/>
            <a:ext cx="20718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3429000" y="4286160"/>
            <a:ext cx="150012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3214800" y="6072120"/>
            <a:ext cx="19288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2" descr="C:\Documents and Settings\Rall\Local Settings\Temporary Internet Files\Content.IE5\OP8DQ1UD\dglxasset[8].aspx"/>
          <p:cNvPicPr/>
          <p:nvPr/>
        </p:nvPicPr>
        <p:blipFill>
          <a:blip r:embed="rId2"/>
          <a:stretch/>
        </p:blipFill>
        <p:spPr>
          <a:xfrm>
            <a:off x="6786720" y="3071880"/>
            <a:ext cx="14968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1066680" y="920880"/>
            <a:ext cx="6797880" cy="11570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785520" y="271476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entury Schoolbook"/>
              </a:rPr>
              <a:t>Pasionat de cărţi de ştiinţă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entury Schoolbook"/>
              </a:rPr>
              <a:t>Pasionat de cărţi cu poveşti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entury Schoolbook"/>
              </a:rPr>
              <a:t>Interesat de cărţile cu dialoguri, cu acţiune palpitantă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entury Schoolbook"/>
              </a:rPr>
              <a:t>Interesat de cărţile cu prezentări detaliate ale locurilor în care se petrece acţiunea şi ale personajelor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2" descr="C:\Documents and Settings\Rall\Local Settings\Temporary Internet Files\Content.IE5\OP8DQ1UD\dglxasset[7].aspx"/>
          <p:cNvPicPr/>
          <p:nvPr/>
        </p:nvPicPr>
        <p:blipFill>
          <a:blip r:embed="rId2"/>
          <a:stretch/>
        </p:blipFill>
        <p:spPr>
          <a:xfrm>
            <a:off x="5564160" y="4714920"/>
            <a:ext cx="1938240" cy="1830240"/>
          </a:xfrm>
          <a:prstGeom prst="rect">
            <a:avLst/>
          </a:prstGeom>
          <a:ln w="0">
            <a:noFill/>
          </a:ln>
        </p:spPr>
      </p:pic>
      <p:sp>
        <p:nvSpPr>
          <p:cNvPr id="389" name="5-Point Star 4"/>
          <p:cNvSpPr/>
          <p:nvPr/>
        </p:nvSpPr>
        <p:spPr>
          <a:xfrm rot="21058800">
            <a:off x="6286320" y="2143080"/>
            <a:ext cx="1000080" cy="1000080"/>
          </a:xfrm>
          <a:custGeom>
            <a:avLst/>
            <a:gdLst>
              <a:gd name="textAreaLeft" fmla="*/ 308880 w 1000080"/>
              <a:gd name="textAreaRight" fmla="*/ 691200 w 1000080"/>
              <a:gd name="textAreaTop" fmla="*/ 381960 h 1000080"/>
              <a:gd name="textAreaBottom" fmla="*/ 763920 h 1000080"/>
            </a:gdLst>
            <a:ahLst/>
            <a:rect l="textAreaLeft" t="textAreaTop" r="textAreaRight" b="textAreaBottom"/>
            <a:pathLst>
              <a:path w="1000132" h="1000132">
                <a:moveTo>
                  <a:pt x="1" y="382015"/>
                </a:moveTo>
                <a:lnTo>
                  <a:pt x="382019" y="382018"/>
                </a:lnTo>
                <a:lnTo>
                  <a:pt x="500066" y="0"/>
                </a:lnTo>
                <a:lnTo>
                  <a:pt x="618113" y="382018"/>
                </a:lnTo>
                <a:lnTo>
                  <a:pt x="1000131" y="382015"/>
                </a:lnTo>
                <a:lnTo>
                  <a:pt x="691071" y="618112"/>
                </a:lnTo>
                <a:lnTo>
                  <a:pt x="809124" y="1000129"/>
                </a:lnTo>
                <a:lnTo>
                  <a:pt x="500066" y="764028"/>
                </a:lnTo>
                <a:lnTo>
                  <a:pt x="191008" y="1000129"/>
                </a:lnTo>
                <a:lnTo>
                  <a:pt x="309061" y="618112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7480440" cy="11588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Precizează titlurile a cinci volume pe care ţi le-ai dori în biblioteca t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Prezintă, pe scurt, cartea ta preferat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5-Point Star 3"/>
          <p:cNvSpPr/>
          <p:nvPr/>
        </p:nvSpPr>
        <p:spPr>
          <a:xfrm rot="21019800">
            <a:off x="6858000" y="2857320"/>
            <a:ext cx="1071720" cy="1128600"/>
          </a:xfrm>
          <a:custGeom>
            <a:avLst/>
            <a:gdLst>
              <a:gd name="textAreaLeft" fmla="*/ 331200 w 1071720"/>
              <a:gd name="textAreaRight" fmla="*/ 740520 w 1071720"/>
              <a:gd name="textAreaTop" fmla="*/ 430920 h 1128600"/>
              <a:gd name="textAreaBottom" fmla="*/ 862200 h 1128600"/>
            </a:gdLst>
            <a:ahLst/>
            <a:rect l="textAreaLeft" t="textAreaTop" r="textAreaRight" b="textAreaBottom"/>
            <a:pathLst>
              <a:path w="1071570" h="1128714">
                <a:moveTo>
                  <a:pt x="1" y="431129"/>
                </a:moveTo>
                <a:lnTo>
                  <a:pt x="409306" y="431132"/>
                </a:lnTo>
                <a:lnTo>
                  <a:pt x="535785" y="0"/>
                </a:lnTo>
                <a:lnTo>
                  <a:pt x="662264" y="431132"/>
                </a:lnTo>
                <a:lnTo>
                  <a:pt x="1071569" y="431129"/>
                </a:lnTo>
                <a:lnTo>
                  <a:pt x="740433" y="697580"/>
                </a:lnTo>
                <a:lnTo>
                  <a:pt x="866919" y="1128710"/>
                </a:lnTo>
                <a:lnTo>
                  <a:pt x="535785" y="862255"/>
                </a:lnTo>
                <a:lnTo>
                  <a:pt x="204651" y="1128710"/>
                </a:lnTo>
                <a:lnTo>
                  <a:pt x="331137" y="69758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4" descr="4.jpg"/>
          <p:cNvPicPr/>
          <p:nvPr/>
        </p:nvPicPr>
        <p:blipFill>
          <a:blip r:embed="rId2"/>
          <a:stretch/>
        </p:blipFill>
        <p:spPr>
          <a:xfrm>
            <a:off x="2857680" y="3000240"/>
            <a:ext cx="2689200" cy="364824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94" name="5-Point Star 5"/>
          <p:cNvSpPr/>
          <p:nvPr/>
        </p:nvSpPr>
        <p:spPr>
          <a:xfrm rot="1080000">
            <a:off x="968040" y="4397400"/>
            <a:ext cx="857160" cy="857160"/>
          </a:xfrm>
          <a:custGeom>
            <a:avLst/>
            <a:gdLst>
              <a:gd name="textAreaLeft" fmla="*/ 264960 w 857160"/>
              <a:gd name="textAreaRight" fmla="*/ 592200 w 857160"/>
              <a:gd name="textAreaTop" fmla="*/ 327240 h 857160"/>
              <a:gd name="textAreaBottom" fmla="*/ 654840 h 857160"/>
            </a:gdLst>
            <a:ahLst/>
            <a:rect l="textAreaLeft" t="textAreaTop" r="textAreaRight" b="textAreaBottom"/>
            <a:pathLst>
              <a:path w="857256" h="857256">
                <a:moveTo>
                  <a:pt x="1" y="327442"/>
                </a:moveTo>
                <a:lnTo>
                  <a:pt x="327444" y="327444"/>
                </a:lnTo>
                <a:lnTo>
                  <a:pt x="428628" y="0"/>
                </a:lnTo>
                <a:lnTo>
                  <a:pt x="529812" y="327444"/>
                </a:lnTo>
                <a:lnTo>
                  <a:pt x="857255" y="327442"/>
                </a:lnTo>
                <a:lnTo>
                  <a:pt x="592347" y="529811"/>
                </a:lnTo>
                <a:lnTo>
                  <a:pt x="693535" y="857253"/>
                </a:lnTo>
                <a:lnTo>
                  <a:pt x="428628" y="654881"/>
                </a:lnTo>
                <a:lnTo>
                  <a:pt x="163721" y="857253"/>
                </a:lnTo>
                <a:lnTo>
                  <a:pt x="264909" y="529811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2:33:00Z</dcterms:created>
  <dc:creator>Rall</dc:creator>
  <dc:description/>
  <dc:language>en-US</dc:language>
  <cp:lastModifiedBy>Rall</cp:lastModifiedBy>
  <dcterms:modified xsi:type="dcterms:W3CDTF">2010-09-03T13:21:39Z</dcterms:modified>
  <cp:revision>18</cp:revision>
  <dc:subject/>
  <dc:title>Cartea – obiect cultural</dc:title>
</cp:coreProperties>
</file>