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B2F-3248-4725-80E6-BD782BD5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858-F8A7-4BB6-BE69-D5403C02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F3B-F5C9-4FBC-B26C-32CB24DD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ED2-930A-46B9-81F1-10E6041C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755F-1EA4-441F-8D9C-8C151663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FB83-49B3-478A-80B2-ECD1BB7C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19F4-7902-4442-B57C-97235C4E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729B-9FB1-427F-9200-B90BE5D4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E73F-4442-4131-AE8B-C0E5B630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1336-DAFB-4250-A046-1277A250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925D-EBEE-4E28-A5AA-93F259E2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9DD-062D-4B02-A205-53D5CD8E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E90D-6F3B-4698-8629-577BDAF6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E9C7-4263-4CA1-B4A3-743A01BD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25BB-F897-468B-94B0-34C76C48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A7CB-F064-4C73-A581-1BA3B058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83C4-1302-498F-A677-DD9CAE55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E77BC-041F-4BED-AC6E-A5CBE5FC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6B950-E005-4D84-A7B3-DB716942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49DFC-3FB7-496B-9EEB-99EF1028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4E0E5-E151-4395-B797-10AD9828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AAFE3-6A85-4ECF-B0A4-E569B7C3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6F2-14B3-44CB-8C1A-734F5734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E69C0-1134-4F32-B359-CC11D5D8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4E874-D1B9-4E9D-B9E9-890E852B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6E763-BC92-4347-BEEF-AEAE2C01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77068-7904-41EC-8C38-DB53DB85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E04BC-02BC-4521-98B9-FED3EE88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B1A46-D27E-486F-A19E-5ADDFB43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7018E-8897-4933-9092-E5DFA3FE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AFB81-3F6C-4D01-B80E-554F0BB8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31B04-1BFC-4CB2-8E81-3472E104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943C4-0AB7-4501-B414-C0F8F46C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2FB-6865-4AF4-A66C-064DEECD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30486-EE89-491E-AA3D-580005BA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0CD67-EDB0-44C8-8DFB-42AA80CD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5FC68-A1C7-44F3-8EB5-E402FCED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45BF8-D039-417A-B205-7BDCBD8D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EAC68-FD0D-435B-8163-B5D2B362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FF789-9390-4455-B629-365E7AF6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05242-B0B2-4DFB-B1B6-D2D951BE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2F177-8979-4E17-AF2E-BC44872D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07689-8E9F-4B77-982F-15218F71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8A037-864A-4616-B647-8F8B76E7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BC7-D4BA-4053-AB8E-01DC2B11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8E283-36DB-4CA6-B33F-60411291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F3F51-4BE0-49F2-A4EA-99320286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57E595-68C6-406A-A041-4F868AF5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C9EA4-BD96-471E-BD3D-A9FA3356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13614-E76B-4B80-8B57-616A9C63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30471-10A9-4E6E-A28D-17507152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566B5-8653-416C-ABF1-BB7F7D08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72F4A-BFDA-4D13-922D-B137702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9FD68-5EF2-423C-AB5E-BBA1A06D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28813-EE64-41B8-B650-BA97C8A3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6E4-A07C-4C95-9213-14A07B53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CA28B-E962-4CE5-AD41-27202A96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6A9BD6-DA7F-4C16-8120-EE80104A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D3C82-4997-4806-9358-0A9EA278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4E38C4-8B7D-4F85-B05F-F4402E91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0AC03-F623-4DC5-A562-4886FD34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E917F-22CB-4DFC-BF3D-906DC399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4D04B5-AE61-4A13-8DE5-DF3C84E6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8BEE3-0A44-4715-B9F2-DBBA0D05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6D156-7C53-496A-8B96-3BE874C6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BBDA7C-068C-4F12-890A-1DA5372D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3DF-432A-4969-B917-F2D82F26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20ECF-1E9C-4E3F-B7AC-51FCCCAA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C75D3-44CB-486D-9ECD-41F75F1D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20F2D-45FF-4EAE-8BDD-41CC3420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71D1D0-4824-4200-88B6-1DACB951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35A3AC-D5DE-4435-80C0-C68888DB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F006F-DD28-4FD1-8985-43682133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24DAA0-0E03-4242-8602-E45AA077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5341B5-6686-40F5-B694-77E9E67D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51069F-6F4F-49AB-B0CD-D02E9059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6E23A3-69DC-4D30-8AA8-A6E43AC2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E85-F5FE-4318-BA9F-F840B912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5B5A2-DAFF-4A9B-86FC-65A6213F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8EC48-ED65-4C51-BCEE-50790101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17F2AA-F0C6-42FC-AF7B-25A7C1C2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92C024-338C-4C18-8B8B-BBABE585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58AE87-58D8-4923-A145-294AD486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882-6BF6-4952-A1A3-5C0135D7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1FB7-B4BB-4F6B-9ED1-2474A29EEC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6084-811A-497C-B145-03A989F14E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00E4-DD52-4AA4-8A85-18F291FEF3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0E79-A6B7-4955-8997-E4115A1903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B84B-9F69-4B14-B791-CE8BA2630D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87A7-2C73-4A7A-A098-F30E767D29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202F-6B5D-4157-9A85-789384E230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2120760" y="371520"/>
            <a:ext cx="6364440" cy="1238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2142720" y="1785600"/>
            <a:ext cx="61722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575f6d"/>
                </a:solidFill>
                <a:latin typeface="Century Schoolbook"/>
              </a:rPr>
              <a:t>Dragi copii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575f6d"/>
                </a:solidFill>
                <a:latin typeface="Century Schoolbook"/>
              </a:rPr>
              <a:t>Cartea vă este prieten şi partener în pasionanta aventură a vieţii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575f6d"/>
                </a:solidFill>
                <a:latin typeface="Century Schoolbook"/>
              </a:rPr>
              <a:t>Veţi pătrunde, treptat, în universul cuvântului rostit şi scris. Obervând, folosindu-vă cunoştinţele şi imaginaţia, jucându-vă şi exersând, veţi ajunge la un stil personal de a lucra şi de a gândi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575f6d"/>
                </a:solidFill>
                <a:latin typeface="Century Schoolbook"/>
              </a:rPr>
              <a:t>Veţi înţelege tainele de dincolo de cuvinte, descoperindu-vă pe voi înşivă într-o lumină poate necunoscut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5-Point Star 7"/>
          <p:cNvSpPr/>
          <p:nvPr/>
        </p:nvSpPr>
        <p:spPr>
          <a:xfrm rot="10064400">
            <a:off x="7802640" y="10872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ed9ed48b9daf71d4d51551df8f3bed6c-d2xetc0.jpg"/>
          <p:cNvPicPr/>
          <p:nvPr/>
        </p:nvPicPr>
        <p:blipFill>
          <a:blip r:embed="rId1"/>
          <a:stretch/>
        </p:blipFill>
        <p:spPr>
          <a:xfrm>
            <a:off x="317520" y="963720"/>
            <a:ext cx="3011400" cy="30049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8840" y="428760"/>
            <a:ext cx="747216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700" spc="-1" strike="noStrike">
                <a:solidFill>
                  <a:srgbClr val="575f6d"/>
                </a:solidFill>
                <a:latin typeface="Century Schoolbook"/>
              </a:rPr>
              <a:t>,,</a:t>
            </a: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NUMAI POETUL,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CA PASĂRI CE ZBOARĂ 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DEASUPRA VALURILOR, 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TRECE PESTE NEMĂRGINIREA TIMPULUI: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ÎN RAMURILE GÂNDULUI,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ÎN SFINTELE LUNCI,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UNDE PASĂRI CA EL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SE-NTREC ÎN CÂNTĂRI.</a:t>
            </a:r>
            <a:r>
              <a:rPr b="1" i="1" lang="en-US" sz="1800" spc="-1" strike="noStrike">
                <a:solidFill>
                  <a:srgbClr val="575f6d"/>
                </a:solidFill>
                <a:latin typeface="Century Schoolbook"/>
              </a:rPr>
              <a:t>”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</a:t>
            </a:r>
            <a:r>
              <a:rPr b="1" lang="ro-RO" sz="1800" spc="-1" strike="noStrike">
                <a:solidFill>
                  <a:srgbClr val="575f6d"/>
                </a:solidFill>
                <a:latin typeface="Century Schoolbook"/>
              </a:rPr>
              <a:t>(MIHAI EMINESCU – </a:t>
            </a: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NUMAI POETUL...)</a:t>
            </a:r>
            <a:br>
              <a:rPr sz="2700"/>
            </a:br>
            <a:r>
              <a:rPr b="1" i="1" lang="ro-RO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99720" y="3714480"/>
            <a:ext cx="711036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Cum expicaţi, în versurile de mai sus, compararea potului cu </a:t>
            </a:r>
            <a:r>
              <a:rPr b="0" i="1" lang="ro-RO" sz="2000" spc="-1" strike="noStrike">
                <a:solidFill>
                  <a:srgbClr val="000000"/>
                </a:solidFill>
                <a:latin typeface="Century Schoolbook"/>
              </a:rPr>
              <a:t>pasări ce zboară deasupra valurilo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Care sunt </a:t>
            </a:r>
            <a:r>
              <a:rPr b="0" i="1" lang="ro-RO" sz="2000" spc="-1" strike="noStrike">
                <a:solidFill>
                  <a:srgbClr val="000000"/>
                </a:solidFill>
                <a:latin typeface="Century Schoolbook"/>
              </a:rPr>
              <a:t>cântările poetului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Prin ce rămâne acesta în </a:t>
            </a:r>
            <a:r>
              <a:rPr b="0" i="1" lang="ro-RO" sz="2000" spc="-1" strike="noStrike">
                <a:solidFill>
                  <a:srgbClr val="000000"/>
                </a:solidFill>
                <a:latin typeface="Century Schoolbook"/>
              </a:rPr>
              <a:t>nemărginirea timpului</a:t>
            </a: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, adică în veşnicie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5-Point Star 3"/>
          <p:cNvSpPr/>
          <p:nvPr/>
        </p:nvSpPr>
        <p:spPr>
          <a:xfrm rot="1203000">
            <a:off x="771120" y="1285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are este mijlocul cel mai vechi prin care creaţia scriitorilor şi a savanţilor este transmisă generaţiilor viitoa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Cunoaşteţi şi alte mijloace folosite în acest sco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Pot cărţile schimba lume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5-Point Star 3"/>
          <p:cNvSpPr/>
          <p:nvPr/>
        </p:nvSpPr>
        <p:spPr>
          <a:xfrm rot="17961600">
            <a:off x="450360" y="6649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4" descr="A_rain_of_books_by_chocothemonkey.jpg"/>
          <p:cNvPicPr/>
          <p:nvPr/>
        </p:nvPicPr>
        <p:blipFill>
          <a:blip r:embed="rId2"/>
          <a:stretch/>
        </p:blipFill>
        <p:spPr>
          <a:xfrm>
            <a:off x="5194440" y="3193920"/>
            <a:ext cx="2547720" cy="3335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Documents and Settings\Rall\Local Settings\Temporary Internet Files\Content.IE5\SZK1KRYT\dglxasset[3].aspx"/>
          <p:cNvPicPr/>
          <p:nvPr/>
        </p:nvPicPr>
        <p:blipFill>
          <a:blip r:embed="rId3"/>
          <a:stretch/>
        </p:blipFill>
        <p:spPr>
          <a:xfrm>
            <a:off x="928800" y="3929040"/>
            <a:ext cx="2786040" cy="240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706320" y="706320"/>
            <a:ext cx="7480440" cy="1586160"/>
          </a:xfrm>
          <a:prstGeom prst="rect">
            <a:avLst/>
          </a:prstGeom>
          <a:ln w="0">
            <a:noFill/>
          </a:ln>
        </p:spPr>
      </p:pic>
      <p:pic>
        <p:nvPicPr>
          <p:cNvPr id="364" name="Content Placeholder 3" descr="copertajianu_mic.jpg"/>
          <p:cNvPicPr/>
          <p:nvPr/>
        </p:nvPicPr>
        <p:blipFill>
          <a:blip r:embed="rId2"/>
          <a:stretch/>
        </p:blipFill>
        <p:spPr>
          <a:xfrm>
            <a:off x="2071800" y="2500200"/>
            <a:ext cx="4929120" cy="3351240"/>
          </a:xfrm>
          <a:prstGeom prst="rect">
            <a:avLst/>
          </a:prstGeom>
          <a:ln w="0">
            <a:noFill/>
          </a:ln>
        </p:spPr>
      </p:pic>
      <p:cxnSp>
        <p:nvCxnSpPr>
          <p:cNvPr id="365" name="Straight Arrow Connector 5"/>
          <p:cNvCxnSpPr/>
          <p:nvPr/>
        </p:nvCxnSpPr>
        <p:spPr>
          <a:xfrm>
            <a:off x="1318680" y="2687400"/>
            <a:ext cx="1429560" cy="5720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66" name="Rectangle 7"/>
          <p:cNvSpPr/>
          <p:nvPr/>
        </p:nvSpPr>
        <p:spPr>
          <a:xfrm>
            <a:off x="214200" y="2071800"/>
            <a:ext cx="1357560" cy="642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Straight Arrow Connector 9"/>
          <p:cNvCxnSpPr/>
          <p:nvPr/>
        </p:nvCxnSpPr>
        <p:spPr>
          <a:xfrm flipH="1">
            <a:off x="6571440" y="2286000"/>
            <a:ext cx="1143720" cy="35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68" name="Rectangle 10"/>
          <p:cNvSpPr/>
          <p:nvPr/>
        </p:nvSpPr>
        <p:spPr>
          <a:xfrm>
            <a:off x="7500960" y="1714680"/>
            <a:ext cx="1143000" cy="5713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9" name="Straight Arrow Connector 12"/>
          <p:cNvCxnSpPr/>
          <p:nvPr/>
        </p:nvCxnSpPr>
        <p:spPr>
          <a:xfrm flipH="1" flipV="1">
            <a:off x="6490440" y="5002920"/>
            <a:ext cx="10724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70" name="Rectangle 15"/>
          <p:cNvSpPr/>
          <p:nvPr/>
        </p:nvSpPr>
        <p:spPr>
          <a:xfrm>
            <a:off x="7572240" y="4643280"/>
            <a:ext cx="1071720" cy="642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1" name="Straight Arrow Connector 17"/>
          <p:cNvCxnSpPr/>
          <p:nvPr/>
        </p:nvCxnSpPr>
        <p:spPr>
          <a:xfrm>
            <a:off x="4535640" y="5851080"/>
            <a:ext cx="180000" cy="2214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72" name="Rectangle 18"/>
          <p:cNvSpPr/>
          <p:nvPr/>
        </p:nvSpPr>
        <p:spPr>
          <a:xfrm>
            <a:off x="3929040" y="6215040"/>
            <a:ext cx="1714680" cy="500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066680" y="781200"/>
            <a:ext cx="7010640" cy="2011320"/>
          </a:xfrm>
          <a:prstGeom prst="rect">
            <a:avLst/>
          </a:prstGeom>
          <a:ln w="0">
            <a:noFill/>
          </a:ln>
        </p:spPr>
      </p:pic>
      <p:pic>
        <p:nvPicPr>
          <p:cNvPr id="374" name="Content Placeholder 4" descr="f702f22Povesti-cu-printese--cop.we.jpg"/>
          <p:cNvPicPr/>
          <p:nvPr/>
        </p:nvPicPr>
        <p:blipFill>
          <a:blip r:embed="rId2"/>
          <a:stretch/>
        </p:blipFill>
        <p:spPr>
          <a:xfrm>
            <a:off x="571680" y="2857680"/>
            <a:ext cx="2616120" cy="3230280"/>
          </a:xfrm>
          <a:prstGeom prst="rect">
            <a:avLst/>
          </a:prstGeom>
          <a:ln w="0">
            <a:noFill/>
          </a:ln>
        </p:spPr>
      </p:pic>
      <p:sp>
        <p:nvSpPr>
          <p:cNvPr id="375" name="5-Point Star 6"/>
          <p:cNvSpPr/>
          <p:nvPr/>
        </p:nvSpPr>
        <p:spPr>
          <a:xfrm>
            <a:off x="4286160" y="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5" descr="ImaginiFugare.jpg"/>
          <p:cNvPicPr/>
          <p:nvPr/>
        </p:nvPicPr>
        <p:blipFill>
          <a:blip r:embed="rId3"/>
          <a:stretch/>
        </p:blipFill>
        <p:spPr>
          <a:xfrm>
            <a:off x="3500280" y="3071880"/>
            <a:ext cx="1828800" cy="2817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23300_0_1256287256.jpg"/>
          <p:cNvPicPr/>
          <p:nvPr/>
        </p:nvPicPr>
        <p:blipFill>
          <a:blip r:embed="rId4"/>
          <a:stretch/>
        </p:blipFill>
        <p:spPr>
          <a:xfrm>
            <a:off x="5786280" y="2714760"/>
            <a:ext cx="2432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0720" y="566640"/>
            <a:ext cx="7480440" cy="13654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857160" y="2071800"/>
            <a:ext cx="74296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otează, în spaţiile corespunzătoare din casetele următoare, numele tău (ca autor), titlul cărţii şi alte elemente de identificare a volumului care pot apărea pe coperta I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Alege o culoare pentru copertă sau ilustraţii adecvate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5-Point Star 4"/>
          <p:cNvSpPr/>
          <p:nvPr/>
        </p:nvSpPr>
        <p:spPr>
          <a:xfrm>
            <a:off x="357120" y="56437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Flowchart: Predefined Process 5"/>
          <p:cNvSpPr/>
          <p:nvPr/>
        </p:nvSpPr>
        <p:spPr>
          <a:xfrm>
            <a:off x="2571840" y="3357720"/>
            <a:ext cx="3286080" cy="3286080"/>
          </a:xfrm>
          <a:prstGeom prst="flowChartPredefined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3143160" y="3500280"/>
            <a:ext cx="20718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429000" y="4286160"/>
            <a:ext cx="150012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3214800" y="6072120"/>
            <a:ext cx="19288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C:\Documents and Settings\Rall\Local Settings\Temporary Internet Files\Content.IE5\OP8DQ1UD\dglxasset[8].aspx"/>
          <p:cNvPicPr/>
          <p:nvPr/>
        </p:nvPicPr>
        <p:blipFill>
          <a:blip r:embed="rId2"/>
          <a:stretch/>
        </p:blipFill>
        <p:spPr>
          <a:xfrm>
            <a:off x="6786720" y="3071880"/>
            <a:ext cx="1496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066680" y="920880"/>
            <a:ext cx="6797880" cy="1157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785520" y="271476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entury Schoolbook"/>
              </a:rPr>
              <a:t>Pasionat de cărţi de ştiinţă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entury Schoolbook"/>
              </a:rPr>
              <a:t>Pasionat de cărţi cu poveşti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entury Schoolbook"/>
              </a:rPr>
              <a:t>Interesat de cărţile cu dialoguri, cu acţiune palpitantă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entury Schoolbook"/>
              </a:rPr>
              <a:t>Interesat de cărţile cu prezentări detaliate ale locurilor în care se petrece acţiunea şi ale personajelo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2" descr="C:\Documents and Settings\Rall\Local Settings\Temporary Internet Files\Content.IE5\OP8DQ1UD\dglxasset[7].aspx"/>
          <p:cNvPicPr/>
          <p:nvPr/>
        </p:nvPicPr>
        <p:blipFill>
          <a:blip r:embed="rId2"/>
          <a:stretch/>
        </p:blipFill>
        <p:spPr>
          <a:xfrm>
            <a:off x="5564160" y="4714920"/>
            <a:ext cx="1938240" cy="1830240"/>
          </a:xfrm>
          <a:prstGeom prst="rect">
            <a:avLst/>
          </a:prstGeom>
          <a:ln w="0">
            <a:noFill/>
          </a:ln>
        </p:spPr>
      </p:pic>
      <p:sp>
        <p:nvSpPr>
          <p:cNvPr id="389" name="5-Point Star 4"/>
          <p:cNvSpPr/>
          <p:nvPr/>
        </p:nvSpPr>
        <p:spPr>
          <a:xfrm rot="21058800">
            <a:off x="6286320" y="2143080"/>
            <a:ext cx="1000080" cy="100008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00132" h="1000132">
                <a:moveTo>
                  <a:pt x="1" y="382015"/>
                </a:moveTo>
                <a:lnTo>
                  <a:pt x="382019" y="382018"/>
                </a:lnTo>
                <a:lnTo>
                  <a:pt x="500066" y="0"/>
                </a:lnTo>
                <a:lnTo>
                  <a:pt x="618113" y="382018"/>
                </a:lnTo>
                <a:lnTo>
                  <a:pt x="1000131" y="382015"/>
                </a:lnTo>
                <a:lnTo>
                  <a:pt x="691071" y="618112"/>
                </a:lnTo>
                <a:lnTo>
                  <a:pt x="809124" y="1000129"/>
                </a:lnTo>
                <a:lnTo>
                  <a:pt x="500066" y="764028"/>
                </a:lnTo>
                <a:lnTo>
                  <a:pt x="191008" y="1000129"/>
                </a:lnTo>
                <a:lnTo>
                  <a:pt x="309061" y="618112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Precizează titlurile a cinci volume pe care ţi le-ai dori în biblioteca 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Prezintă, pe scurt, cartea ta preferat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5-Point Star 3"/>
          <p:cNvSpPr/>
          <p:nvPr/>
        </p:nvSpPr>
        <p:spPr>
          <a:xfrm rot="21019800">
            <a:off x="6858000" y="2857320"/>
            <a:ext cx="1071720" cy="1128600"/>
          </a:xfrm>
          <a:custGeom>
            <a:avLst/>
            <a:gdLst>
              <a:gd name="textAreaLeft" fmla="*/ 331200 w 1071720"/>
              <a:gd name="textAreaRight" fmla="*/ 740520 w 1071720"/>
              <a:gd name="textAreaTop" fmla="*/ 430920 h 1128600"/>
              <a:gd name="textAreaBottom" fmla="*/ 862200 h 1128600"/>
            </a:gdLst>
            <a:ahLst/>
            <a:rect l="textAreaLeft" t="textAreaTop" r="textAreaRight" b="textAreaBottom"/>
            <a:pathLst>
              <a:path w="1071570" h="1128714">
                <a:moveTo>
                  <a:pt x="1" y="431129"/>
                </a:moveTo>
                <a:lnTo>
                  <a:pt x="409306" y="431132"/>
                </a:lnTo>
                <a:lnTo>
                  <a:pt x="535785" y="0"/>
                </a:lnTo>
                <a:lnTo>
                  <a:pt x="662264" y="431132"/>
                </a:lnTo>
                <a:lnTo>
                  <a:pt x="1071569" y="431129"/>
                </a:lnTo>
                <a:lnTo>
                  <a:pt x="740433" y="697580"/>
                </a:lnTo>
                <a:lnTo>
                  <a:pt x="866919" y="1128710"/>
                </a:lnTo>
                <a:lnTo>
                  <a:pt x="535785" y="862255"/>
                </a:lnTo>
                <a:lnTo>
                  <a:pt x="204651" y="1128710"/>
                </a:lnTo>
                <a:lnTo>
                  <a:pt x="331137" y="69758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4" descr="4.jpg"/>
          <p:cNvPicPr/>
          <p:nvPr/>
        </p:nvPicPr>
        <p:blipFill>
          <a:blip r:embed="rId2"/>
          <a:stretch/>
        </p:blipFill>
        <p:spPr>
          <a:xfrm>
            <a:off x="2857680" y="3000240"/>
            <a:ext cx="2689200" cy="364824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94" name="5-Point Star 5"/>
          <p:cNvSpPr/>
          <p:nvPr/>
        </p:nvSpPr>
        <p:spPr>
          <a:xfrm rot="1080000">
            <a:off x="968040" y="4397400"/>
            <a:ext cx="857160" cy="857160"/>
          </a:xfrm>
          <a:custGeom>
            <a:avLst/>
            <a:gdLst>
              <a:gd name="textAreaLeft" fmla="*/ 264960 w 857160"/>
              <a:gd name="textAreaRight" fmla="*/ 592200 w 85716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857256" h="857256">
                <a:moveTo>
                  <a:pt x="1" y="327442"/>
                </a:moveTo>
                <a:lnTo>
                  <a:pt x="327444" y="327444"/>
                </a:lnTo>
                <a:lnTo>
                  <a:pt x="428628" y="0"/>
                </a:lnTo>
                <a:lnTo>
                  <a:pt x="529812" y="327444"/>
                </a:lnTo>
                <a:lnTo>
                  <a:pt x="857255" y="327442"/>
                </a:lnTo>
                <a:lnTo>
                  <a:pt x="592347" y="529811"/>
                </a:lnTo>
                <a:lnTo>
                  <a:pt x="693535" y="857253"/>
                </a:lnTo>
                <a:lnTo>
                  <a:pt x="428628" y="654881"/>
                </a:lnTo>
                <a:lnTo>
                  <a:pt x="163721" y="857253"/>
                </a:lnTo>
                <a:lnTo>
                  <a:pt x="264909" y="529811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2:33:00Z</dcterms:created>
  <dc:creator>Rall</dc:creator>
  <dc:description/>
  <dc:language>en-US</dc:language>
  <cp:lastModifiedBy>Rall</cp:lastModifiedBy>
  <dcterms:modified xsi:type="dcterms:W3CDTF">2010-09-03T13:21:39Z</dcterms:modified>
  <cp:revision>18</cp:revision>
  <dc:subject/>
  <dc:title>Cartea – obiect cultural</dc:title>
</cp:coreProperties>
</file>