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313-3E73-464B-960F-8A28724C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996-DA10-493D-9A00-A2AAEB44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64A-888E-4902-97E9-F65F4428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949-23D9-4901-A163-E9CF6F61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5D6-6E45-461C-986A-C674F17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0624-86F9-424F-BBC7-3BE8AD96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1A8A-30E9-4512-825C-ADD2D68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F32-C914-4474-B33E-FE08498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6056-0841-428B-8710-B4AAFA0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00D-1318-4CE9-94FE-9816463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1AA-27C9-40C8-8383-BAF7525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5D6-33BE-498E-8FFE-713AA0B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AF9D-E9CB-472D-8E72-3D7665D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376-CB6A-40C8-ABDE-8A73815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CCAD-0080-4A89-9305-6C73C68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918F-EB85-4211-B8D5-18C71A53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7078-E96A-4D21-BCA6-A3BD0652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2D784-D1B1-463B-813A-F80DD557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3DF38-F1E6-45A7-A26E-487E055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95FB5-764D-4E83-968A-1045A5E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A368C-B890-4C8B-BBDA-31F3D42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478BA-7C94-40AE-A1A8-4DDE181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EAA-8159-43AF-AAF7-84183C4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2F11F-9A3D-489D-A6D1-5B2C240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85917-3069-4012-B443-68F4DB2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0C46C-8C16-48AE-9F86-BBCA4B5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9BF19-206A-4151-8DAA-C2E0388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9297C-9D83-4F6E-A0EB-9F1AD768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93B88-B6FB-4FEF-9988-B2965484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0833-944B-4783-936B-7420B5C7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A17D-2A29-4F3C-8FB3-73E52CF6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61AC-6CD3-47A4-8630-2ED167A9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2692-0CD0-4F7D-B82C-4F124060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AC6-8464-495B-92EC-2D44B84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2986-38BC-43D1-9356-06D45D5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058B-032F-4CAF-AFCC-2CF3155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5EE5-BDA1-4CEB-B9CE-2CA99E3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392C-97A5-4F98-8472-99BDB6C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F4FE-5A92-4D72-9B53-59C9173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5444-00A9-4F47-9F41-8FB87A78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E487-B6B9-4586-9415-3AC62971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8F68-6554-485C-826E-26D8E25C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011C-9E0C-4BAA-AF6C-1094E268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D0D32-EB37-43A1-B456-22952F90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8A8-2143-4D5C-A4A1-2EA0F7A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A65AD-1FD2-4E68-B5A8-8B599DB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E7B1B-F217-4334-9ED5-D80593CA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54525-8A35-4321-ACD1-4960C52B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2581D-B837-47B2-AE0A-F88C732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87766-D13D-4635-9B4C-8C906ED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3A804-E49E-4721-BEA0-069FE8F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A1109-F9BF-4A36-A460-022EBDB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76C72-A1F7-43D0-BE47-427A67D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F5DDB-7657-466B-97C6-CD0B5767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FC2FB-6566-4AE6-9EC7-ABDDAAEF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B93-54EC-492B-B38C-AC8FA73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D7860-9C0B-4F9C-870A-97765FE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73D59-4402-4A23-82C7-E4F0765A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F858B-4519-4CE8-A5AC-F54FC4F0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F3774-4B6C-4BC9-B09C-5DB1DEA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89D70-3A71-4B4F-883D-0230C023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96014-4016-4721-9C55-3DA0ED6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CFE93-2EDA-4EE7-8AAA-E9FD554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C600C-A8AB-42BA-B52F-FCBD04C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610D0-D4D0-4B2D-83D5-AA1ACE1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7B008-F361-4859-B57F-5D7C3C7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B02-A3ED-407E-8544-BB89526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05753-9914-43A2-922F-F856309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8D92F-C51F-4E3C-A82D-A8921F21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0915E-5564-4C91-85B7-D7F1ACC7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48DAA-894A-45E2-952F-72ED50CE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A48A5-6940-45F2-BD7F-5F7AE8A7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65A06-E8FB-4EF6-8E7A-21E41B3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645DF-7B34-42D1-A4B2-DF1DE889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2874E-5C0E-44E1-A219-8DAC55A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D4CD0-62B0-4252-8EA8-53484978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5780E-852B-42D6-B735-B77EEFA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F9-FEAD-455C-B014-6AAFD78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0DD6E-C506-42ED-A76E-2DDA850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CCDBD-862C-4CC6-8914-564D074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89427-11C4-43B3-BEB0-95BAC05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40B78-8486-41CC-8F32-6D56F73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13A7B-7F9E-4735-A068-DD215DD3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2ED-6C77-412E-AC87-4F64EFA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9AE-E560-48E0-913C-F56AD3ED55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13F9-164D-4D54-A4D4-2BF119CD16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7B4-7EBB-4B05-9672-B577AF6853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98E-EFF0-492F-8353-6AF640CF65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587-994F-487B-847B-EE024D168C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D58-E36E-44FF-9EB9-B018E38355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115-C93E-4C71-BCAF-4A27145895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0760" y="371520"/>
            <a:ext cx="636444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14272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Dragi copi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Cartea vă este prieten şi partener în pasionanta aventură a vieţi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pătrunde, treptat, în universul cuvântului rostit şi scris. Obervând, folosindu-vă cunoştinţele şi imaginaţia, jucându-vă şi exersând, veţi ajunge la un stil personal de a lucra şi de a gând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înţelege tainele de dincolo de cuvinte, descoperindu-vă pe voi înşivă într-o lumină poate necunoscut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5-Point Star 7"/>
          <p:cNvSpPr/>
          <p:nvPr/>
        </p:nvSpPr>
        <p:spPr>
          <a:xfrm rot="10064400">
            <a:off x="7802640" y="1087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ed9ed48b9daf71d4d51551df8f3bed6c-d2xetc0.jpg"/>
          <p:cNvPicPr/>
          <p:nvPr/>
        </p:nvPicPr>
        <p:blipFill>
          <a:blip r:embed="rId1"/>
          <a:stretch/>
        </p:blipFill>
        <p:spPr>
          <a:xfrm>
            <a:off x="317520" y="963720"/>
            <a:ext cx="3011400" cy="30049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4721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,,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CA PASĂRI CE ZBOARĂ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DEASUPRA VALURILOR,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TRECE PESTE NEMĂRGINIREA TIMPULUI: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RAMURILE GÂNDULU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SFINTELE LUNC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UNDE PASĂRI CA EL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SE-NTREC ÎN CÂNTĂRI.</a:t>
            </a:r>
            <a:r>
              <a:rPr b="1" i="1" lang="en-US" sz="18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(MIHAI EMINESCU – 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...)</a:t>
            </a:r>
            <a:br>
              <a:rPr sz="2700"/>
            </a:b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9720" y="3714480"/>
            <a:ext cx="71103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um expicaţi, în versurile de mai sus, compararea potului cu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pasări ce zboară deasupra valuril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are sunt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cântările poetulu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Prin ce rămâne acesta în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nemărginirea timpului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, adică în veşnici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5-Point Star 3"/>
          <p:cNvSpPr/>
          <p:nvPr/>
        </p:nvSpPr>
        <p:spPr>
          <a:xfrm rot="1203000">
            <a:off x="771120" y="1285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re este mijlocul cel mai vechi prin care creaţia scriitorilor şi a savanţilor este transmisă generaţiilor viito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Cunoaşteţi şi alte mijloace folosite în acest sc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ot cărţile schimba lume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5-Point Star 3"/>
          <p:cNvSpPr/>
          <p:nvPr/>
        </p:nvSpPr>
        <p:spPr>
          <a:xfrm rot="17961600">
            <a:off x="450360" y="66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A_rain_of_books_by_chocothemonkey.jpg"/>
          <p:cNvPicPr/>
          <p:nvPr/>
        </p:nvPicPr>
        <p:blipFill>
          <a:blip r:embed="rId2"/>
          <a:stretch/>
        </p:blipFill>
        <p:spPr>
          <a:xfrm>
            <a:off x="5194440" y="3193920"/>
            <a:ext cx="2547720" cy="333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Documents and Settings\Rall\Local Settings\Temporary Internet Files\Content.IE5\SZK1KRYT\dglxasset[3].aspx"/>
          <p:cNvPicPr/>
          <p:nvPr/>
        </p:nvPicPr>
        <p:blipFill>
          <a:blip r:embed="rId3"/>
          <a:stretch/>
        </p:blipFill>
        <p:spPr>
          <a:xfrm>
            <a:off x="928800" y="3929040"/>
            <a:ext cx="2786040" cy="24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480440" cy="15861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3" descr="copertajianu_mic.jpg"/>
          <p:cNvPicPr/>
          <p:nvPr/>
        </p:nvPicPr>
        <p:blipFill>
          <a:blip r:embed="rId2"/>
          <a:stretch/>
        </p:blipFill>
        <p:spPr>
          <a:xfrm>
            <a:off x="2071800" y="2500200"/>
            <a:ext cx="4929120" cy="335124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5"/>
          <p:cNvCxnSpPr/>
          <p:nvPr/>
        </p:nvCxnSpPr>
        <p:spPr>
          <a:xfrm>
            <a:off x="1318680" y="2687400"/>
            <a:ext cx="1429560" cy="572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Rectangle 7"/>
          <p:cNvSpPr/>
          <p:nvPr/>
        </p:nvSpPr>
        <p:spPr>
          <a:xfrm>
            <a:off x="214200" y="2071800"/>
            <a:ext cx="135756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9"/>
          <p:cNvCxnSpPr/>
          <p:nvPr/>
        </p:nvCxnSpPr>
        <p:spPr>
          <a:xfrm flipH="1">
            <a:off x="6571440" y="2286000"/>
            <a:ext cx="114372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Rectangle 10"/>
          <p:cNvSpPr/>
          <p:nvPr/>
        </p:nvSpPr>
        <p:spPr>
          <a:xfrm>
            <a:off x="7500960" y="1714680"/>
            <a:ext cx="114300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Straight Arrow Connector 12"/>
          <p:cNvCxnSpPr/>
          <p:nvPr/>
        </p:nvCxnSpPr>
        <p:spPr>
          <a:xfrm flipH="1" flipV="1">
            <a:off x="6490440" y="5002920"/>
            <a:ext cx="10724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Rectangle 15"/>
          <p:cNvSpPr/>
          <p:nvPr/>
        </p:nvSpPr>
        <p:spPr>
          <a:xfrm>
            <a:off x="7572240" y="4643280"/>
            <a:ext cx="10717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>
            <a:off x="4535640" y="5851080"/>
            <a:ext cx="180000" cy="221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2" name="Rectangle 18"/>
          <p:cNvSpPr/>
          <p:nvPr/>
        </p:nvSpPr>
        <p:spPr>
          <a:xfrm>
            <a:off x="3929040" y="6215040"/>
            <a:ext cx="171468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2011320"/>
          </a:xfrm>
          <a:prstGeom prst="rect">
            <a:avLst/>
          </a:prstGeom>
          <a:ln w="0">
            <a:noFill/>
          </a:ln>
        </p:spPr>
      </p:pic>
      <p:pic>
        <p:nvPicPr>
          <p:cNvPr id="374" name="Content Placeholder 4" descr="f702f22Povesti-cu-printese--cop.we.jpg"/>
          <p:cNvPicPr/>
          <p:nvPr/>
        </p:nvPicPr>
        <p:blipFill>
          <a:blip r:embed="rId2"/>
          <a:stretch/>
        </p:blipFill>
        <p:spPr>
          <a:xfrm>
            <a:off x="571680" y="2857680"/>
            <a:ext cx="2616120" cy="3230280"/>
          </a:xfrm>
          <a:prstGeom prst="rect">
            <a:avLst/>
          </a:prstGeom>
          <a:ln w="0">
            <a:noFill/>
          </a:ln>
        </p:spPr>
      </p:pic>
      <p:sp>
        <p:nvSpPr>
          <p:cNvPr id="375" name="5-Point Star 6"/>
          <p:cNvSpPr/>
          <p:nvPr/>
        </p:nvSpPr>
        <p:spPr>
          <a:xfrm>
            <a:off x="4286160" y="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ImaginiFugare.jpg"/>
          <p:cNvPicPr/>
          <p:nvPr/>
        </p:nvPicPr>
        <p:blipFill>
          <a:blip r:embed="rId3"/>
          <a:stretch/>
        </p:blipFill>
        <p:spPr>
          <a:xfrm>
            <a:off x="3500280" y="3071880"/>
            <a:ext cx="1828800" cy="2817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23300_0_1256287256.jpg"/>
          <p:cNvPicPr/>
          <p:nvPr/>
        </p:nvPicPr>
        <p:blipFill>
          <a:blip r:embed="rId4"/>
          <a:stretch/>
        </p:blipFill>
        <p:spPr>
          <a:xfrm>
            <a:off x="5786280" y="2714760"/>
            <a:ext cx="243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74804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857160" y="2071800"/>
            <a:ext cx="7429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otează, în spaţiile corespunzătoare din casetele următoare, numele tău (ca autor), titlul cărţii şi alte elemente de identificare a volumului care pot apărea pe coperta 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lege o culoare pentru copertă sau ilustraţii adecvat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5-Point Star 4"/>
          <p:cNvSpPr/>
          <p:nvPr/>
        </p:nvSpPr>
        <p:spPr>
          <a:xfrm>
            <a:off x="357120" y="564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Flowchart: Predefined Process 5"/>
          <p:cNvSpPr/>
          <p:nvPr/>
        </p:nvSpPr>
        <p:spPr>
          <a:xfrm>
            <a:off x="2571840" y="3357720"/>
            <a:ext cx="3286080" cy="3286080"/>
          </a:xfrm>
          <a:prstGeom prst="flowChartPredefined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143160" y="3500280"/>
            <a:ext cx="20718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429000" y="4286160"/>
            <a:ext cx="15001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214800" y="6072120"/>
            <a:ext cx="19288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Documents and Settings\Rall\Local Settings\Temporary Internet Files\Content.IE5\OP8DQ1UD\dglxasset[8].aspx"/>
          <p:cNvPicPr/>
          <p:nvPr/>
        </p:nvPicPr>
        <p:blipFill>
          <a:blip r:embed="rId2"/>
          <a:stretch/>
        </p:blipFill>
        <p:spPr>
          <a:xfrm>
            <a:off x="6786720" y="3071880"/>
            <a:ext cx="1496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066680" y="920880"/>
            <a:ext cx="6797880" cy="115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785520" y="271476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de ştiinţ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cu poveşti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dialoguri, cu acţiune palpitant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prezentări detaliate ale locurilor în care se petrece acţiunea şi ale personajel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C:\Documents and Settings\Rall\Local Settings\Temporary Internet Files\Content.IE5\OP8DQ1UD\dglxasset[7].aspx"/>
          <p:cNvPicPr/>
          <p:nvPr/>
        </p:nvPicPr>
        <p:blipFill>
          <a:blip r:embed="rId2"/>
          <a:stretch/>
        </p:blipFill>
        <p:spPr>
          <a:xfrm>
            <a:off x="5564160" y="4714920"/>
            <a:ext cx="1938240" cy="1830240"/>
          </a:xfrm>
          <a:prstGeom prst="rect">
            <a:avLst/>
          </a:prstGeom>
          <a:ln w="0">
            <a:noFill/>
          </a:ln>
        </p:spPr>
      </p:pic>
      <p:sp>
        <p:nvSpPr>
          <p:cNvPr id="389" name="5-Point Star 4"/>
          <p:cNvSpPr/>
          <p:nvPr/>
        </p:nvSpPr>
        <p:spPr>
          <a:xfrm rot="21058800">
            <a:off x="6286320" y="214308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32" h="1000132">
                <a:moveTo>
                  <a:pt x="1" y="382015"/>
                </a:moveTo>
                <a:lnTo>
                  <a:pt x="382019" y="382018"/>
                </a:lnTo>
                <a:lnTo>
                  <a:pt x="500066" y="0"/>
                </a:lnTo>
                <a:lnTo>
                  <a:pt x="618113" y="382018"/>
                </a:lnTo>
                <a:lnTo>
                  <a:pt x="1000131" y="382015"/>
                </a:lnTo>
                <a:lnTo>
                  <a:pt x="691071" y="618112"/>
                </a:lnTo>
                <a:lnTo>
                  <a:pt x="809124" y="1000129"/>
                </a:lnTo>
                <a:lnTo>
                  <a:pt x="500066" y="764028"/>
                </a:lnTo>
                <a:lnTo>
                  <a:pt x="191008" y="1000129"/>
                </a:lnTo>
                <a:lnTo>
                  <a:pt x="309061" y="618112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cizează titlurile a cinci volume pe care ţi le-ai dori în biblioteca 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zintă, pe scurt, cartea ta preferat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5-Point Star 3"/>
          <p:cNvSpPr/>
          <p:nvPr/>
        </p:nvSpPr>
        <p:spPr>
          <a:xfrm rot="21019800">
            <a:off x="6858000" y="2857320"/>
            <a:ext cx="1071720" cy="112860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430920 h 1128600"/>
              <a:gd name="textAreaBottom" fmla="*/ 862200 h 1128600"/>
            </a:gdLst>
            <a:ahLst/>
            <a:rect l="textAreaLeft" t="textAreaTop" r="textAreaRight" b="textAreaBottom"/>
            <a:pathLst>
              <a:path w="1071570" h="1128714">
                <a:moveTo>
                  <a:pt x="1" y="431129"/>
                </a:moveTo>
                <a:lnTo>
                  <a:pt x="409306" y="431132"/>
                </a:lnTo>
                <a:lnTo>
                  <a:pt x="535785" y="0"/>
                </a:lnTo>
                <a:lnTo>
                  <a:pt x="662264" y="431132"/>
                </a:lnTo>
                <a:lnTo>
                  <a:pt x="1071569" y="431129"/>
                </a:lnTo>
                <a:lnTo>
                  <a:pt x="740433" y="697580"/>
                </a:lnTo>
                <a:lnTo>
                  <a:pt x="866919" y="1128710"/>
                </a:lnTo>
                <a:lnTo>
                  <a:pt x="535785" y="862255"/>
                </a:lnTo>
                <a:lnTo>
                  <a:pt x="204651" y="1128710"/>
                </a:lnTo>
                <a:lnTo>
                  <a:pt x="331137" y="69758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4.jpg"/>
          <p:cNvPicPr/>
          <p:nvPr/>
        </p:nvPicPr>
        <p:blipFill>
          <a:blip r:embed="rId2"/>
          <a:stretch/>
        </p:blipFill>
        <p:spPr>
          <a:xfrm>
            <a:off x="2857680" y="3000240"/>
            <a:ext cx="2689200" cy="36482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4" name="5-Point Star 5"/>
          <p:cNvSpPr/>
          <p:nvPr/>
        </p:nvSpPr>
        <p:spPr>
          <a:xfrm rot="1080000">
            <a:off x="968040" y="439740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6" h="857256">
                <a:moveTo>
                  <a:pt x="1" y="327442"/>
                </a:moveTo>
                <a:lnTo>
                  <a:pt x="327444" y="327444"/>
                </a:lnTo>
                <a:lnTo>
                  <a:pt x="428628" y="0"/>
                </a:lnTo>
                <a:lnTo>
                  <a:pt x="529812" y="327444"/>
                </a:lnTo>
                <a:lnTo>
                  <a:pt x="857255" y="327442"/>
                </a:lnTo>
                <a:lnTo>
                  <a:pt x="592347" y="529811"/>
                </a:lnTo>
                <a:lnTo>
                  <a:pt x="693535" y="857253"/>
                </a:lnTo>
                <a:lnTo>
                  <a:pt x="428628" y="654881"/>
                </a:lnTo>
                <a:lnTo>
                  <a:pt x="163721" y="857253"/>
                </a:lnTo>
                <a:lnTo>
                  <a:pt x="264909" y="52981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33:00Z</dcterms:created>
  <dc:creator>Rall</dc:creator>
  <dc:description/>
  <dc:language>en-US</dc:language>
  <cp:lastModifiedBy>Rall</cp:lastModifiedBy>
  <dcterms:modified xsi:type="dcterms:W3CDTF">2010-09-03T13:21:39Z</dcterms:modified>
  <cp:revision>18</cp:revision>
  <dc:subject/>
  <dc:title>Cartea – obiect cultural</dc:title>
</cp:coreProperties>
</file>