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2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249-4E40-426F-BB1C-2774271B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31D-DFD9-4A3A-BA76-D41F2860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2A6-9D26-4349-A7E8-08B17569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9E2-2B74-4F78-8610-3698B40B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C794-9DDE-4AEC-9A7F-CDEE0F87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5859-E4D8-4832-9359-2810BB8A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FA17-8E2D-44C9-8D9C-7629ED50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1623-AFB1-4D7F-8F7D-6F387EC9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53E9-CD9E-483E-8138-23EB4D86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1733-588C-436B-821D-83F0669E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BA19-7984-4029-BB9A-372BB97E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545-8F6C-4E9F-AE8F-C0D274BA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2DD4-EF31-4A85-88CE-AC8FBA14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0DC8-9E81-4E62-9853-B1221D7D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C895-E004-4739-8D06-43A86683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184F-0BC4-4185-8D07-9153A665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C5B3-844E-4F8B-B9BD-46853B5D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58CD3-CA21-47A6-8100-125349F8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EC925E-FFF9-423D-9AC4-C624ED02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D41E6-6E4D-4896-A3FB-26B038E8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553C5-75AE-4B14-ABC4-2FD4A41E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00F23-E4F7-40AF-A05F-7033D51D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DDF2-0821-4126-BAE6-F9B797E1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EB5EB-7A67-442B-84A7-99E08B3E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CB8E7-F5DD-4D2A-9537-EB4C16B5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4B080-07B4-4C46-BA84-2BF048C0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4AF6CB-2A5A-41DE-9D35-8FC51C4F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AD3ED-574B-4FF1-91F5-E0145433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A5D502-4691-48D1-9A00-6A09BC4D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06FE7-8572-40A8-9220-BA62FB8B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8F979-DBD2-49DD-9553-7351EB69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67E21-2288-4AAC-9C69-596A4CB5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74A6E-1E09-4CC9-A478-2D0D1642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B9C5-9AF1-4808-9A77-38D7BB33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C5CB9-1687-49BF-8F66-662B0DBE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5AB9A-0EA8-4028-A592-70D408E8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909A4-3CC9-4B96-AF34-8159D9FB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AAAAB-084F-4AAF-890A-D26D038B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1B2B4-C920-49C2-90DB-C2808CEB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F22AC-D44D-4527-B868-25426A13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641D0-8548-4E93-8DE6-5EF7DAA2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DDB25-2C29-4A7B-869F-23872331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48F35-3275-4756-8C89-01A920D9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49A48C-90E8-42F6-98F3-D8E91B32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6DC-C9D4-44AF-980A-5F310EBD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385452-788E-4F20-956F-2717FC69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7FE8C-33C2-4BFA-84FE-06F4A5EF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F1CADF-027E-47D1-B5EC-47BCE16C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F0DF4-DF76-4C9D-B374-7506EF45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FC2818-0263-44FD-9938-D1D8E67F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3E7A09-7C14-4E6C-AA44-987BA70D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8963C-F483-4829-9A85-DEB8A1A4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5D0544-CA52-4B04-8AF6-CA61E412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F22567-DC6B-47C7-B38B-BE818AA0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7B6FC9-BCB6-439A-9489-480D5F9F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96D-C61D-4D72-ABB0-0CFA6BE5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0A45B9-E8F6-4828-B9EE-F6816349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2F46ED-9214-45E0-8A37-B2AFD621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4A986B-285A-4CF1-8E5F-896515D6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EB5389-8FF1-4007-8C46-68664D0D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A4F2FC-F549-44F2-A4D8-ED7AC9AD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33855F-ABCE-4C41-BF96-42761064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FAEBCA-6B6F-41BD-AE49-F0AAAE9D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EC1259-1670-4EC3-B3E5-CFD99539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AAB19A-6A98-4CB2-8FCD-66F64616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D91D8F-378C-4A71-B3D5-9EC8ECF9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A393-22ED-4340-A9A5-A3DEF142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477B44-9C49-4226-9D41-DF1AC022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85B111-51E3-4718-8C8F-6FFE8FA2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0F9771-D3CF-4753-8C3F-C698A634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FF4454-FC9C-4F3E-A73F-0110C43D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297118-C994-435F-8F44-189111EE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4CAA05-DEA6-4156-8A97-D9D25E76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42CB99-257E-42D8-91E0-9BC857D4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65221C-DC1A-48FF-A564-FEEBE880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FCCCE3-0473-4FAA-94FE-3C7B255F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0C6F40-99DC-4657-9049-27463F9C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6EB-CBE2-446F-A4C6-AED15011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233422-BA03-4F7C-8FA0-650C2F8B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65D0BE-D310-4C7D-910A-040A1D6B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E53528-74DD-4795-837A-9EFA120C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421505-0B9E-4631-B6F4-C002B4E5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EE8397-D428-4F46-90AF-CF621401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A13-020F-47BD-BA94-2A5D7672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3BEF-423A-4993-8A2F-CCDF4A1FE8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AABD-6E90-43BD-8DCD-93CA2AC1F0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D38A-7449-4257-82D3-717D89EE3F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70DF-4012-466D-88CE-B65B5DE6CD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271D-643B-4782-91A7-F29574F2752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C250-1BDC-49FA-BD05-61BB1346D4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1C97-DF83-49CD-9DBF-27845C99096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2120760" y="371520"/>
            <a:ext cx="6364440" cy="1238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2142720" y="1785600"/>
            <a:ext cx="61722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575f6d"/>
                </a:solidFill>
                <a:latin typeface="Century Schoolbook"/>
              </a:rPr>
              <a:t>Dragi copii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575f6d"/>
                </a:solidFill>
                <a:latin typeface="Century Schoolbook"/>
              </a:rPr>
              <a:t>Cartea vă este prieten şi partener în pasionanta aventură a vieţii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575f6d"/>
                </a:solidFill>
                <a:latin typeface="Century Schoolbook"/>
              </a:rPr>
              <a:t>Veţi pătrunde, treptat, în universul cuvântului rostit şi scris. Obervând, folosindu-vă cunoştinţele şi imaginaţia, jucându-vă şi exersând, veţi ajunge la un stil personal de a lucra şi de a gândi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575f6d"/>
                </a:solidFill>
                <a:latin typeface="Century Schoolbook"/>
              </a:rPr>
              <a:t>Veţi înţelege tainele de dincolo de cuvinte, descoperindu-vă pe voi înşivă într-o lumină poate necunoscută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5-Point Star 7"/>
          <p:cNvSpPr/>
          <p:nvPr/>
        </p:nvSpPr>
        <p:spPr>
          <a:xfrm rot="10064400">
            <a:off x="7802640" y="108720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ed9ed48b9daf71d4d51551df8f3bed6c-d2xetc0.jpg"/>
          <p:cNvPicPr/>
          <p:nvPr/>
        </p:nvPicPr>
        <p:blipFill>
          <a:blip r:embed="rId1"/>
          <a:stretch/>
        </p:blipFill>
        <p:spPr>
          <a:xfrm>
            <a:off x="317520" y="963720"/>
            <a:ext cx="3011400" cy="30049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8840" y="428760"/>
            <a:ext cx="747216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700" spc="-1" strike="noStrike">
                <a:solidFill>
                  <a:srgbClr val="575f6d"/>
                </a:solidFill>
                <a:latin typeface="Century Schoolbook"/>
              </a:rPr>
              <a:t>,,</a:t>
            </a: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NUMAI POETUL,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CA PASĂRI CE ZBOARĂ 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DEASUPRA VALURILOR, 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TRECE PESTE NEMĂRGINIREA TIMPULUI: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ÎN RAMURILE GÂNDULUI,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ÎN SFINTELE LUNCI,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UNDE PASĂRI CA EL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SE-NTREC ÎN CÂNTĂRI.</a:t>
            </a:r>
            <a:r>
              <a:rPr b="1" i="1" lang="en-US" sz="1800" spc="-1" strike="noStrike">
                <a:solidFill>
                  <a:srgbClr val="575f6d"/>
                </a:solidFill>
                <a:latin typeface="Century Schoolbook"/>
              </a:rPr>
              <a:t>”</a:t>
            </a:r>
            <a:br>
              <a:rPr sz="1800"/>
            </a:b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                                                </a:t>
            </a:r>
            <a:r>
              <a:rPr b="1" lang="ro-RO" sz="1800" spc="-1" strike="noStrike">
                <a:solidFill>
                  <a:srgbClr val="575f6d"/>
                </a:solidFill>
                <a:latin typeface="Century Schoolbook"/>
              </a:rPr>
              <a:t>(MIHAI EMINESCU – </a:t>
            </a:r>
            <a:r>
              <a:rPr b="1" i="1" lang="ro-RO" sz="1800" spc="-1" strike="noStrike">
                <a:solidFill>
                  <a:srgbClr val="575f6d"/>
                </a:solidFill>
                <a:latin typeface="Century Schoolbook"/>
              </a:rPr>
              <a:t>NUMAI POETUL...)</a:t>
            </a:r>
            <a:br>
              <a:rPr sz="2700"/>
            </a:br>
            <a:r>
              <a:rPr b="1" i="1" lang="ro-RO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99720" y="3714480"/>
            <a:ext cx="711036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Cum expicaţi, în versurile de mai sus, compararea potului cu </a:t>
            </a:r>
            <a:r>
              <a:rPr b="0" i="1" lang="ro-RO" sz="2000" spc="-1" strike="noStrike">
                <a:solidFill>
                  <a:srgbClr val="000000"/>
                </a:solidFill>
                <a:latin typeface="Century Schoolbook"/>
              </a:rPr>
              <a:t>pasări ce zboară deasupra valurilor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Care sunt </a:t>
            </a:r>
            <a:r>
              <a:rPr b="0" i="1" lang="ro-RO" sz="2000" spc="-1" strike="noStrike">
                <a:solidFill>
                  <a:srgbClr val="000000"/>
                </a:solidFill>
                <a:latin typeface="Century Schoolbook"/>
              </a:rPr>
              <a:t>cântările poetului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Prin ce rămâne acesta în </a:t>
            </a:r>
            <a:r>
              <a:rPr b="0" i="1" lang="ro-RO" sz="2000" spc="-1" strike="noStrike">
                <a:solidFill>
                  <a:srgbClr val="000000"/>
                </a:solidFill>
                <a:latin typeface="Century Schoolbook"/>
              </a:rPr>
              <a:t>nemărginirea timpului</a:t>
            </a: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, adică în veşnicie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5-Point Star 3"/>
          <p:cNvSpPr/>
          <p:nvPr/>
        </p:nvSpPr>
        <p:spPr>
          <a:xfrm rot="1203000">
            <a:off x="771120" y="1285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1588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are este mijlocul cel mai vechi prin care creaţia scriitorilor şi a savanţilor este transmisă generaţiilor viitoar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Cunoaşteţi şi alte mijloace folosite în acest sco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Pot cărţile schimba lume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5-Point Star 3"/>
          <p:cNvSpPr/>
          <p:nvPr/>
        </p:nvSpPr>
        <p:spPr>
          <a:xfrm rot="17961600">
            <a:off x="450360" y="6649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4" descr="A_rain_of_books_by_chocothemonkey.jpg"/>
          <p:cNvPicPr/>
          <p:nvPr/>
        </p:nvPicPr>
        <p:blipFill>
          <a:blip r:embed="rId2"/>
          <a:stretch/>
        </p:blipFill>
        <p:spPr>
          <a:xfrm>
            <a:off x="5194440" y="3193920"/>
            <a:ext cx="2547720" cy="3335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Documents and Settings\Rall\Local Settings\Temporary Internet Files\Content.IE5\SZK1KRYT\dglxasset[3].aspx"/>
          <p:cNvPicPr/>
          <p:nvPr/>
        </p:nvPicPr>
        <p:blipFill>
          <a:blip r:embed="rId3"/>
          <a:stretch/>
        </p:blipFill>
        <p:spPr>
          <a:xfrm>
            <a:off x="928800" y="3929040"/>
            <a:ext cx="2786040" cy="2405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706320" y="706320"/>
            <a:ext cx="7480440" cy="1586160"/>
          </a:xfrm>
          <a:prstGeom prst="rect">
            <a:avLst/>
          </a:prstGeom>
          <a:ln w="0">
            <a:noFill/>
          </a:ln>
        </p:spPr>
      </p:pic>
      <p:pic>
        <p:nvPicPr>
          <p:cNvPr id="364" name="Content Placeholder 3" descr="copertajianu_mic.jpg"/>
          <p:cNvPicPr/>
          <p:nvPr/>
        </p:nvPicPr>
        <p:blipFill>
          <a:blip r:embed="rId2"/>
          <a:stretch/>
        </p:blipFill>
        <p:spPr>
          <a:xfrm>
            <a:off x="2071800" y="2500200"/>
            <a:ext cx="4929120" cy="3351240"/>
          </a:xfrm>
          <a:prstGeom prst="rect">
            <a:avLst/>
          </a:prstGeom>
          <a:ln w="0">
            <a:noFill/>
          </a:ln>
        </p:spPr>
      </p:pic>
      <p:cxnSp>
        <p:nvCxnSpPr>
          <p:cNvPr id="365" name="Straight Arrow Connector 5"/>
          <p:cNvCxnSpPr/>
          <p:nvPr/>
        </p:nvCxnSpPr>
        <p:spPr>
          <a:xfrm>
            <a:off x="1318680" y="2687400"/>
            <a:ext cx="1429560" cy="5720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66" name="Rectangle 7"/>
          <p:cNvSpPr/>
          <p:nvPr/>
        </p:nvSpPr>
        <p:spPr>
          <a:xfrm>
            <a:off x="214200" y="2071800"/>
            <a:ext cx="1357560" cy="6429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7" name="Straight Arrow Connector 9"/>
          <p:cNvCxnSpPr/>
          <p:nvPr/>
        </p:nvCxnSpPr>
        <p:spPr>
          <a:xfrm flipH="1">
            <a:off x="6571440" y="2286000"/>
            <a:ext cx="1143720" cy="357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68" name="Rectangle 10"/>
          <p:cNvSpPr/>
          <p:nvPr/>
        </p:nvSpPr>
        <p:spPr>
          <a:xfrm>
            <a:off x="7500960" y="1714680"/>
            <a:ext cx="1143000" cy="5713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9" name="Straight Arrow Connector 12"/>
          <p:cNvCxnSpPr/>
          <p:nvPr/>
        </p:nvCxnSpPr>
        <p:spPr>
          <a:xfrm flipH="1" flipV="1">
            <a:off x="6490440" y="5002920"/>
            <a:ext cx="10724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70" name="Rectangle 15"/>
          <p:cNvSpPr/>
          <p:nvPr/>
        </p:nvSpPr>
        <p:spPr>
          <a:xfrm>
            <a:off x="7572240" y="4643280"/>
            <a:ext cx="1071720" cy="6429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1" name="Straight Arrow Connector 17"/>
          <p:cNvCxnSpPr/>
          <p:nvPr/>
        </p:nvCxnSpPr>
        <p:spPr>
          <a:xfrm>
            <a:off x="4535640" y="5851080"/>
            <a:ext cx="180000" cy="2214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72" name="Rectangle 18"/>
          <p:cNvSpPr/>
          <p:nvPr/>
        </p:nvSpPr>
        <p:spPr>
          <a:xfrm>
            <a:off x="3929040" y="6215040"/>
            <a:ext cx="1714680" cy="5000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066680" y="781200"/>
            <a:ext cx="7010640" cy="2011320"/>
          </a:xfrm>
          <a:prstGeom prst="rect">
            <a:avLst/>
          </a:prstGeom>
          <a:ln w="0">
            <a:noFill/>
          </a:ln>
        </p:spPr>
      </p:pic>
      <p:pic>
        <p:nvPicPr>
          <p:cNvPr id="374" name="Content Placeholder 4" descr="f702f22Povesti-cu-printese--cop.we.jpg"/>
          <p:cNvPicPr/>
          <p:nvPr/>
        </p:nvPicPr>
        <p:blipFill>
          <a:blip r:embed="rId2"/>
          <a:stretch/>
        </p:blipFill>
        <p:spPr>
          <a:xfrm>
            <a:off x="571680" y="2857680"/>
            <a:ext cx="2616120" cy="3230280"/>
          </a:xfrm>
          <a:prstGeom prst="rect">
            <a:avLst/>
          </a:prstGeom>
          <a:ln w="0">
            <a:noFill/>
          </a:ln>
        </p:spPr>
      </p:pic>
      <p:sp>
        <p:nvSpPr>
          <p:cNvPr id="375" name="5-Point Star 6"/>
          <p:cNvSpPr/>
          <p:nvPr/>
        </p:nvSpPr>
        <p:spPr>
          <a:xfrm>
            <a:off x="4286160" y="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5" descr="ImaginiFugare.jpg"/>
          <p:cNvPicPr/>
          <p:nvPr/>
        </p:nvPicPr>
        <p:blipFill>
          <a:blip r:embed="rId3"/>
          <a:stretch/>
        </p:blipFill>
        <p:spPr>
          <a:xfrm>
            <a:off x="3500280" y="3071880"/>
            <a:ext cx="1828800" cy="2817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23300_0_1256287256.jpg"/>
          <p:cNvPicPr/>
          <p:nvPr/>
        </p:nvPicPr>
        <p:blipFill>
          <a:blip r:embed="rId4"/>
          <a:stretch/>
        </p:blipFill>
        <p:spPr>
          <a:xfrm>
            <a:off x="5786280" y="2714760"/>
            <a:ext cx="2432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0720" y="566640"/>
            <a:ext cx="7480440" cy="13654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857160" y="2071800"/>
            <a:ext cx="74296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ro-RO" sz="1600" spc="-1" strike="noStrike">
                <a:solidFill>
                  <a:srgbClr val="000000"/>
                </a:solidFill>
                <a:latin typeface="Century Schoolbook"/>
              </a:rPr>
              <a:t>otează, în spaţiile corespunzătoare din casetele următoare, numele tău (ca autor), titlul cărţii şi alte elemente de identificare a volumului care pot apărea pe coperta I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entury Schoolbook"/>
              </a:rPr>
              <a:t>Alege o culoare pentru copertă sau ilustraţii adecvate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5-Point Star 4"/>
          <p:cNvSpPr/>
          <p:nvPr/>
        </p:nvSpPr>
        <p:spPr>
          <a:xfrm>
            <a:off x="357120" y="56437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Flowchart: Predefined Process 5"/>
          <p:cNvSpPr/>
          <p:nvPr/>
        </p:nvSpPr>
        <p:spPr>
          <a:xfrm>
            <a:off x="2571840" y="3357720"/>
            <a:ext cx="3286080" cy="3286080"/>
          </a:xfrm>
          <a:prstGeom prst="flowChartPredefined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3143160" y="3500280"/>
            <a:ext cx="20718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3429000" y="4286160"/>
            <a:ext cx="150012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3214800" y="6072120"/>
            <a:ext cx="19288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C:\Documents and Settings\Rall\Local Settings\Temporary Internet Files\Content.IE5\OP8DQ1UD\dglxasset[8].aspx"/>
          <p:cNvPicPr/>
          <p:nvPr/>
        </p:nvPicPr>
        <p:blipFill>
          <a:blip r:embed="rId2"/>
          <a:stretch/>
        </p:blipFill>
        <p:spPr>
          <a:xfrm>
            <a:off x="6786720" y="3071880"/>
            <a:ext cx="14968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1066680" y="920880"/>
            <a:ext cx="6797880" cy="11570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785520" y="271476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entury Schoolbook"/>
              </a:rPr>
              <a:t>Pasionat de cărţi de ştiinţă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entury Schoolbook"/>
              </a:rPr>
              <a:t>Pasionat de cărţi cu poveşti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entury Schoolbook"/>
              </a:rPr>
              <a:t>Interesat de cărţile cu dialoguri, cu acţiune palpitantă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entury Schoolbook"/>
              </a:rPr>
              <a:t>Interesat de cărţile cu prezentări detaliate ale locurilor în care se petrece acţiunea şi ale personajelo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2" descr="C:\Documents and Settings\Rall\Local Settings\Temporary Internet Files\Content.IE5\OP8DQ1UD\dglxasset[7].aspx"/>
          <p:cNvPicPr/>
          <p:nvPr/>
        </p:nvPicPr>
        <p:blipFill>
          <a:blip r:embed="rId2"/>
          <a:stretch/>
        </p:blipFill>
        <p:spPr>
          <a:xfrm>
            <a:off x="5564160" y="4714920"/>
            <a:ext cx="1938240" cy="1830240"/>
          </a:xfrm>
          <a:prstGeom prst="rect">
            <a:avLst/>
          </a:prstGeom>
          <a:ln w="0">
            <a:noFill/>
          </a:ln>
        </p:spPr>
      </p:pic>
      <p:sp>
        <p:nvSpPr>
          <p:cNvPr id="389" name="5-Point Star 4"/>
          <p:cNvSpPr/>
          <p:nvPr/>
        </p:nvSpPr>
        <p:spPr>
          <a:xfrm rot="21058800">
            <a:off x="6286320" y="2143080"/>
            <a:ext cx="1000080" cy="100008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1000132" h="1000132">
                <a:moveTo>
                  <a:pt x="1" y="382015"/>
                </a:moveTo>
                <a:lnTo>
                  <a:pt x="382019" y="382018"/>
                </a:lnTo>
                <a:lnTo>
                  <a:pt x="500066" y="0"/>
                </a:lnTo>
                <a:lnTo>
                  <a:pt x="618113" y="382018"/>
                </a:lnTo>
                <a:lnTo>
                  <a:pt x="1000131" y="382015"/>
                </a:lnTo>
                <a:lnTo>
                  <a:pt x="691071" y="618112"/>
                </a:lnTo>
                <a:lnTo>
                  <a:pt x="809124" y="1000129"/>
                </a:lnTo>
                <a:lnTo>
                  <a:pt x="500066" y="764028"/>
                </a:lnTo>
                <a:lnTo>
                  <a:pt x="191008" y="1000129"/>
                </a:lnTo>
                <a:lnTo>
                  <a:pt x="309061" y="618112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1588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Precizează titlurile a cinci volume pe care ţi le-ai dori în biblioteca 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Prezintă, pe scurt, cartea ta preferat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5-Point Star 3"/>
          <p:cNvSpPr/>
          <p:nvPr/>
        </p:nvSpPr>
        <p:spPr>
          <a:xfrm rot="21019800">
            <a:off x="6858000" y="2857320"/>
            <a:ext cx="1071720" cy="1128600"/>
          </a:xfrm>
          <a:custGeom>
            <a:avLst/>
            <a:gdLst>
              <a:gd name="textAreaLeft" fmla="*/ 331200 w 1071720"/>
              <a:gd name="textAreaRight" fmla="*/ 740520 w 1071720"/>
              <a:gd name="textAreaTop" fmla="*/ 430920 h 1128600"/>
              <a:gd name="textAreaBottom" fmla="*/ 862200 h 1128600"/>
            </a:gdLst>
            <a:ahLst/>
            <a:rect l="textAreaLeft" t="textAreaTop" r="textAreaRight" b="textAreaBottom"/>
            <a:pathLst>
              <a:path w="1071570" h="1128714">
                <a:moveTo>
                  <a:pt x="1" y="431129"/>
                </a:moveTo>
                <a:lnTo>
                  <a:pt x="409306" y="431132"/>
                </a:lnTo>
                <a:lnTo>
                  <a:pt x="535785" y="0"/>
                </a:lnTo>
                <a:lnTo>
                  <a:pt x="662264" y="431132"/>
                </a:lnTo>
                <a:lnTo>
                  <a:pt x="1071569" y="431129"/>
                </a:lnTo>
                <a:lnTo>
                  <a:pt x="740433" y="697580"/>
                </a:lnTo>
                <a:lnTo>
                  <a:pt x="866919" y="1128710"/>
                </a:lnTo>
                <a:lnTo>
                  <a:pt x="535785" y="862255"/>
                </a:lnTo>
                <a:lnTo>
                  <a:pt x="204651" y="1128710"/>
                </a:lnTo>
                <a:lnTo>
                  <a:pt x="331137" y="69758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4" descr="4.jpg"/>
          <p:cNvPicPr/>
          <p:nvPr/>
        </p:nvPicPr>
        <p:blipFill>
          <a:blip r:embed="rId2"/>
          <a:stretch/>
        </p:blipFill>
        <p:spPr>
          <a:xfrm>
            <a:off x="2857680" y="3000240"/>
            <a:ext cx="2689200" cy="364824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94" name="5-Point Star 5"/>
          <p:cNvSpPr/>
          <p:nvPr/>
        </p:nvSpPr>
        <p:spPr>
          <a:xfrm rot="1080000">
            <a:off x="968040" y="4397400"/>
            <a:ext cx="857160" cy="857160"/>
          </a:xfrm>
          <a:custGeom>
            <a:avLst/>
            <a:gdLst>
              <a:gd name="textAreaLeft" fmla="*/ 264960 w 857160"/>
              <a:gd name="textAreaRight" fmla="*/ 592200 w 857160"/>
              <a:gd name="textAreaTop" fmla="*/ 327240 h 857160"/>
              <a:gd name="textAreaBottom" fmla="*/ 654840 h 857160"/>
            </a:gdLst>
            <a:ahLst/>
            <a:rect l="textAreaLeft" t="textAreaTop" r="textAreaRight" b="textAreaBottom"/>
            <a:pathLst>
              <a:path w="857256" h="857256">
                <a:moveTo>
                  <a:pt x="1" y="327442"/>
                </a:moveTo>
                <a:lnTo>
                  <a:pt x="327444" y="327444"/>
                </a:lnTo>
                <a:lnTo>
                  <a:pt x="428628" y="0"/>
                </a:lnTo>
                <a:lnTo>
                  <a:pt x="529812" y="327444"/>
                </a:lnTo>
                <a:lnTo>
                  <a:pt x="857255" y="327442"/>
                </a:lnTo>
                <a:lnTo>
                  <a:pt x="592347" y="529811"/>
                </a:lnTo>
                <a:lnTo>
                  <a:pt x="693535" y="857253"/>
                </a:lnTo>
                <a:lnTo>
                  <a:pt x="428628" y="654881"/>
                </a:lnTo>
                <a:lnTo>
                  <a:pt x="163721" y="857253"/>
                </a:lnTo>
                <a:lnTo>
                  <a:pt x="264909" y="529811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2:33:00Z</dcterms:created>
  <dc:creator>Rall</dc:creator>
  <dc:description/>
  <dc:language>en-US</dc:language>
  <cp:lastModifiedBy>Rall</cp:lastModifiedBy>
  <dcterms:modified xsi:type="dcterms:W3CDTF">2010-09-03T13:21:39Z</dcterms:modified>
  <cp:revision>18</cp:revision>
  <dc:subject/>
  <dc:title>Cartea – obiect cultural</dc:title>
</cp:coreProperties>
</file>