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wmf" ContentType="image/x-wmf"/>
  <Override PartName="/ppt/media/image1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B67-67C8-4E7D-87FA-3D9E74D0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130-E2EA-4F8C-B160-93424BBA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D23-3D4D-4E05-8424-02B591FA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64D-E950-4924-9CEB-A64FD9C0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DF7E-BE8C-42D1-A5AC-E1A20C8D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6759-E2F5-47D5-9475-5C2EACA9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665E-396A-4F81-8375-4337E519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CDE9-2F56-4BED-9FEA-D65111DD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03AD-BBEE-42BD-81ED-F2B6ED05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05EA-D17E-4DBF-9FAE-D63EA7C9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F122-A7AA-4194-BA73-DA8EA14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B96-FBB4-4ACC-A7FB-B899E28A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0BD3-24D7-4EBC-8915-63147224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D875-DFD7-49C6-A64C-1E7FA74D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C4DA-7BD5-4C32-BC55-18BC4FF5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0553-6C6E-4C84-8497-36E5F6FA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8EE5-B7C4-4F6D-8322-B5E37760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1B5CB-6FDD-4999-B377-402AAF19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05C04-A9B8-43CC-B300-53299212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A786-7AC3-44D1-BD39-8E536900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C1680-5852-4134-9A08-7D7B29C2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77509-C88A-4130-B62A-1BA35E8D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83B-E6FC-4019-B4FE-411614EF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7A88C-85F8-4039-A5AF-17C392E3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3E6F-35CE-41A2-86D8-ED49C09D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6E94-C978-44CF-AEAC-C94C9179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1E697-BC72-45FF-A1F8-CD38D6BE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7F35-76D5-425F-AC82-68DF62E2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B15E4-F1D8-4AA0-9CA7-4C43D84B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68BD-7920-418E-AD89-03FE5B60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C545-493C-416F-91D1-63183F3F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7833-A210-4584-A235-CCD5300F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B37C7-7406-4501-859D-D280656B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951-0784-4AE8-A3B4-FC7E7F16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33ECA-5F05-4A37-96B1-5ED60022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6812B-CEB7-4EE5-A408-4AA89E5F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77FC-376A-47CA-B9B1-2AA7ADD4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D248D-3376-4E9F-B649-3601B7E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7CF7A-C17D-45AF-840B-E62A6C7D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1178-C132-4639-B1BB-70F13D84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1EA1-73ED-4435-9117-C5C152F5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96271-AE81-4BC7-8308-FD59E9CD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55727-6CDD-4036-A457-C9AE5D8C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79C03-0102-498C-BA75-FB69602B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045-2FC3-4356-86AE-754243FA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2E25D-4A50-4FFE-9DA7-6A0A4BB9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D10EF-01E6-4099-85F8-9128E7B3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B4580-52BA-49D5-829F-438330B1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116CB-3B48-44BA-9480-31A1EF60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B49E9-2F56-4CB6-9EDB-840E90CA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A7B9E-1D6C-4F4C-83A3-7BE3F129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9796E-E08F-4D24-8148-E89EAB8A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0A95-CD85-4F42-A85D-4D8974AE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F6143-E383-48E3-8752-F0F9444D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4DF4A-BDA5-43C2-BB37-A0CDFBEC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A49-7992-4ABD-B023-B5BBF19E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E832F-82C8-482D-9D45-E4A001E4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6FF9A-AE2E-4ED9-AEF1-BBADC300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6B5DC-CBE7-4CEB-946C-7481B277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09750-7093-489E-9DE3-67996943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AE66F-E2F6-42B4-9BEF-A3150063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16714-4888-4104-8314-C02F4462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F28A8-B1DC-43AD-B286-A43CBDE9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66281-FA2A-40AE-A533-49E8FDA8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A8B87-F760-4673-82B8-3B4F2E42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7D728-C76B-4ED4-9700-E3878F6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FF1-346B-498E-BFAE-9AC7B589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E8F4E-D452-4204-8716-93BDD1C6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3070B-70C5-4F47-83F8-57CD9007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F339F-925A-4BDA-A8BD-DC7F427E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CC944-1F49-473C-B587-E04831AE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DB58C-D3F7-4CA0-B654-52EB5647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63C9E-F87E-4EF6-88CF-8F2B6370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08FD8-5B4F-4EC4-9944-20349C80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54606-7F2B-455D-9C51-BD89895B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1BAD0-F2FC-4648-89A0-EBC25837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9CAFA-2BD4-4205-BFDE-5CC87D6F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1BA-32B2-4721-9668-F855EE2F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20A4C-385D-447D-899F-0535012B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F7E23-5264-41C9-9993-A572A3D7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EF32B-CA88-476C-9FB7-92DF4228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D2015-E611-4796-8BC5-D78885F6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9B2FF-52C7-49BD-90F4-09104654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E4E-8D5B-4FE9-BEBB-5DA791AD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23AF-FC3F-4590-8427-20A4FE98142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22CA-32EF-4BE2-B700-BCC32CE53EA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B3E6-2ADF-40C4-8D23-5F48A68E18E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D9C6-1A83-4530-86C9-E0C2EAA0A60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DD78-783B-4D3D-9B8E-3D3D36205EE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5BE0-BE7E-4F18-8233-8A5C484BE08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4FA3-1E4F-47DB-90A3-BDCA9E8BD04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7.jpg"/>
          <p:cNvPicPr/>
          <p:nvPr/>
        </p:nvPicPr>
        <p:blipFill>
          <a:blip r:embed="rId1"/>
          <a:stretch/>
        </p:blipFill>
        <p:spPr>
          <a:xfrm>
            <a:off x="6072120" y="1714680"/>
            <a:ext cx="2521080" cy="3286080"/>
          </a:xfrm>
          <a:prstGeom prst="rect">
            <a:avLst/>
          </a:prstGeom>
          <a:ln w="0">
            <a:noFill/>
          </a:ln>
        </p:spPr>
      </p:pic>
      <p:pic>
        <p:nvPicPr>
          <p:cNvPr id="319" name="Title 1" descr=""/>
          <p:cNvPicPr/>
          <p:nvPr/>
        </p:nvPicPr>
        <p:blipFill>
          <a:blip r:embed="rId2"/>
          <a:stretch/>
        </p:blipFill>
        <p:spPr>
          <a:xfrm>
            <a:off x="585720" y="476280"/>
            <a:ext cx="8418600" cy="12128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71360" y="3428640"/>
            <a:ext cx="7072200" cy="2514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,,Carte frumoasă, cinste cui te-a scris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Încet gândită, gingaş cumpănită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Eşti ca o floare, anume înflorit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Mâinilor mele, care te-au deschis.</a:t>
            </a:r>
            <a:r>
              <a:rPr b="0" i="1" lang="en-US" sz="2600" spc="-1" strike="noStrike">
                <a:solidFill>
                  <a:srgbClr val="320e04"/>
                </a:solidFill>
                <a:latin typeface="Gill Sans MT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(Tudor Arghezi – </a:t>
            </a:r>
            <a:r>
              <a:rPr b="0" i="1" lang="en-US" sz="2600" spc="-1" strike="noStrike">
                <a:solidFill>
                  <a:srgbClr val="320e04"/>
                </a:solidFill>
                <a:latin typeface="Gill Sans MT"/>
              </a:rPr>
              <a:t>Ex libri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Documents and Settings\Rall\Local Settings\Temporary Internet Files\Content.IE5\OP8DQ1UD\MC910215926[2].jpg"/>
          <p:cNvPicPr/>
          <p:nvPr/>
        </p:nvPicPr>
        <p:blipFill>
          <a:blip r:embed="rId1"/>
          <a:stretch/>
        </p:blipFill>
        <p:spPr>
          <a:xfrm>
            <a:off x="3786120" y="2286000"/>
            <a:ext cx="2687760" cy="27082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300" spc="-1" strike="noStrike">
                <a:solidFill>
                  <a:srgbClr val="572314"/>
                </a:solidFill>
                <a:latin typeface="Gill Sans MT"/>
              </a:rPr>
              <a:t>Definiţii.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artea este un univers magic, </a:t>
            </a:r>
            <a:r>
              <a:rPr b="0" lang="ro-RO" sz="3000" spc="-1" strike="noStrike">
                <a:solidFill>
                  <a:srgbClr val="000000"/>
                </a:solidFill>
                <a:latin typeface="Gill Sans MT"/>
              </a:rPr>
              <a:t>în care marii visători ai umanităţii au transmis generaţiilor următoare zestrea lor de gânduri şi de sentiment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Gill Sans MT"/>
              </a:rPr>
              <a:t>Cartea este o lume în aşteptare. Când o deschide, cititorul dă viaţă spiritelor ei vrăjite şi cartea începe să trăiască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Gill Sans MT"/>
              </a:rPr>
              <a:t>Cartea este purtătoarea peste milenii a înţelepciunii şi a cunoaşterii umane, un obiect de cultură deopotrivă de important în toate domeniile: literatură, artă, ştiinţă, tehnică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300" spc="-1" strike="noStrike">
                <a:solidFill>
                  <a:srgbClr val="572314"/>
                </a:solidFill>
                <a:latin typeface="Gill Sans MT"/>
              </a:rPr>
              <a:t>Ştiaţi că...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Gill Sans MT"/>
              </a:rPr>
              <a:t>Imaginaţia omului a descoperit de-a lungul timpului cele mai diferite moduri de realizare a cărţil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Gill Sans MT"/>
              </a:rPr>
              <a:t>Hârtia a fost descoperită în secolul I e.n., în Chin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Gill Sans MT"/>
              </a:rPr>
              <a:t>la noi, hârtia a apărut mai întâi în Transilvania, în secolul al XIV-lea, apoi în Moldova şi în Ţara Româneasc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2" descr="C:\Documents and Settings\Rall\Local Settings\Temporary Internet Files\Content.IE5\SZK1KRYT\dglxasset[4].aspx"/>
          <p:cNvPicPr/>
          <p:nvPr/>
        </p:nvPicPr>
        <p:blipFill>
          <a:blip r:embed="rId1"/>
          <a:stretch/>
        </p:blipFill>
        <p:spPr>
          <a:xfrm>
            <a:off x="7000920" y="5072040"/>
            <a:ext cx="18460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Rall\Local Settings\Temporary Internet Files\Content.IE5\SZK1KRYT\dglxasset[5].aspx"/>
          <p:cNvPicPr/>
          <p:nvPr/>
        </p:nvPicPr>
        <p:blipFill>
          <a:blip r:embed="rId1"/>
          <a:stretch/>
        </p:blipFill>
        <p:spPr>
          <a:xfrm>
            <a:off x="6929280" y="4214880"/>
            <a:ext cx="2000520" cy="25146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storicul scrier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57200" y="1213920"/>
            <a:ext cx="7499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S-au folosit ca materiale suport pentru scriere: piatra, fildeşul, metalele, lemnul, scoarţa, frunza copacilor, tăbliţele de piatră, de lut sau cerate, plăcuţele de bambus, pânza şi mătasea, papirusul, pergamentul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Cărţile se scriau de mână, circulau ca manuscrise; de multe ori aveau ornamente bogate şi legături de mare preţ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Tiparul a fost inventat în jurul anului 1440 de germanul Johannes Gutenberg. 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Astăzi, cărţile sunt tipărite cu tehnologii moderne, calculatorul având un rol important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Picture 5" descr="C:\Documents and Settings\Rall\Local Settings\Temporary Internet Files\Content.IE5\SZK1KRYT\dglxasset[6].aspx"/>
          <p:cNvPicPr/>
          <p:nvPr/>
        </p:nvPicPr>
        <p:blipFill>
          <a:blip r:embed="rId2"/>
          <a:stretch/>
        </p:blipFill>
        <p:spPr>
          <a:xfrm>
            <a:off x="1071720" y="0"/>
            <a:ext cx="857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300" spc="-1" strike="noStrike">
                <a:solidFill>
                  <a:srgbClr val="572314"/>
                </a:solidFill>
                <a:latin typeface="Gill Sans MT"/>
              </a:rPr>
              <a:t>Părţile componente ale cărţ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2" name="Content Placeholder 3" descr=""/>
          <p:cNvPicPr/>
          <p:nvPr/>
        </p:nvPicPr>
        <p:blipFill>
          <a:blip r:embed="rId1"/>
          <a:stretch/>
        </p:blipFill>
        <p:spPr>
          <a:xfrm>
            <a:off x="1359000" y="1444680"/>
            <a:ext cx="7589880" cy="4809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Documents and Settings\Rall\Local Settings\Temporary Internet Files\Content.IE5\OP8DQ1UD\MC900413638[1].wmf"/>
          <p:cNvPicPr/>
          <p:nvPr/>
        </p:nvPicPr>
        <p:blipFill>
          <a:blip r:embed="rId2"/>
          <a:stretch/>
        </p:blipFill>
        <p:spPr>
          <a:xfrm>
            <a:off x="1143000" y="357120"/>
            <a:ext cx="8334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1:17:15Z</dcterms:created>
  <dc:creator>Rall</dc:creator>
  <dc:description/>
  <dc:language>en-US</dc:language>
  <cp:lastModifiedBy>Rall</cp:lastModifiedBy>
  <dcterms:modified xsi:type="dcterms:W3CDTF">2010-09-03T13:08:19Z</dcterms:modified>
  <cp:revision>5</cp:revision>
  <dc:subject/>
  <dc:title>Cartea – obiect cultural</dc:title>
</cp:coreProperties>
</file>