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215-F0BF-43CD-BAD5-EC1A19DE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006-46A0-402E-A5AC-C781D090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4B4-5320-45F9-BB6F-0E3A06DB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C60-71AF-43B4-878F-B55F0AA1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5E9-F039-4769-8E88-174253F5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9F8A-2DA3-4618-83F4-21DD1D81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B0CE-3104-459D-B859-A2EFCA23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1399-80FD-443D-8A17-DE0822F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5DE-9D1A-46DB-B29A-04869F2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1E0-EE58-43E9-9314-1480AB4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20C-2E18-4E85-8829-910EFD9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EBF-3689-448F-BEDD-BA93AC3B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B62-EAFD-4BE4-80D1-CE0C6F1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43DE-14E7-4995-A113-9CB707D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BCF-DE83-4C79-B222-366664D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437C-6849-4FD1-936D-47FB441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05FD-C522-4F08-AE6D-BA367647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3F8D-27A6-4CED-B992-905712CC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37C5-9625-446B-B4B6-88C800EE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6007-5205-4796-8123-8ECC13AD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7AC8-0943-4BD6-A7A7-9F49AD5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833D-D23E-4207-BDD7-0C78145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D30-3640-424A-B438-171C9BD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C309-BAD8-4622-9008-55124056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5484-516D-4C89-934E-69FAF6C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442C-EF68-449D-9A0C-253C8A8E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0A32-E8E1-4238-BEBF-23FD3BB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CEC0-949E-4132-B665-8B737FA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ABAE-B10A-4522-A2D7-6296DFA7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6530-0910-4402-ADEB-1E65DAE3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6370-82B7-400C-8EDE-0C998F3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9200-8192-4A41-94EF-54417E28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3B9C-0187-494F-AE58-69853AD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A03-8D03-4784-81EF-D34FF42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8C21-F9BD-47BE-A491-A170CDD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8D1B-59A7-40D0-BBBD-A9DB390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86C0-4C97-469A-9072-82B01892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12BD-1D6D-4AE3-AB74-8E10AAE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1370-5568-4923-899D-AF3110B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F3EE-52C6-4CCD-B565-B2B79E8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7F5F-6E83-40C1-9D88-6DA2F606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B10E-D507-42F3-B17C-4F39CE1E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E65C-5CDB-4195-B524-134FF2D4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1163-4E64-4A53-8BC0-A6B10841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A46-4EDD-4D82-90E7-1799BDC9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D742-CBD9-4F71-A463-92559CD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FC96-25B8-4030-9C47-9695E78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A29C-842B-4FAF-B065-AB0E1BC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FD10-BC7F-4C58-B3A9-C56B9D3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06CD-1E99-49F4-B4C0-A6D8ABB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02740-FAD6-4E8C-BE22-89FC053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E003-DC99-47D1-B76A-7F90769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8589-A69E-43F6-91DF-3F8D27E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98A6-A95A-4EF8-98D8-1224572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FC9F-1A9F-48B5-99B7-5C2FD6A3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C4E-84AA-47E5-A300-6A493FC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23D8-A7C4-4CCF-A632-B43B9478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14E0-4219-4C3C-A7F6-94BB6A5E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8F52-DF61-43B4-8746-7988C611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9B50-C13F-42E0-AA8A-C0BEA4B1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B9BB-A999-4E66-8B43-FF7A3B1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B434-E346-467F-B955-6166DD04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5E906-8519-4C51-8792-49286BDE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C07F-6F24-4C7C-B9CB-F7E86CC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FBA6-0FFD-4364-A8B7-A7F4C2F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B66B-8BD5-45A4-BCD4-FED5CDA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B09-A9E2-4A44-BDC9-F937912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0811-00BD-4969-B666-CC9A6E6E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2DBD-9641-4098-8CB0-18D3817F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80EF0-4AE9-42BF-A83B-EA30FCC2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A686-E405-4508-9698-EA9FAAF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0044-9B2D-436E-B955-3B2CAAF4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70E4-3BD0-4AEA-AB08-5FBF07C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85E2-4CDE-4595-927E-0D27DD7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A43E-8009-43CE-B2DF-1D5D3FD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25FE-F1F0-47CE-AEC3-88FDA17A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B23D-D857-4A3D-8D13-60ABEEA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F02-0D67-4799-8799-CE31497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CB27-46FD-4B2C-809D-F7665CA8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3B802-C2CD-43BC-9A9B-7DFEF23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D537-2F32-4F1E-93E1-38F7F3B3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C2F1-7103-41C4-9DC0-132B52DA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A50A-98B8-46B8-A2D3-79287AA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D6D-52B8-4B6F-A848-C215D3F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A65C-37CE-4B6F-B5B7-1CDAB12557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7D2-4C6F-45F5-9FD3-D42ED197EE2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2D65-B2BA-4F6C-99A2-2CA7412A86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40E5-5C8C-4CCA-8D23-34A478623B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098-5CF4-4B3C-9BB0-A4464ED15F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D7F-14FA-4E07-90D4-431C59A402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238-8A2D-40B6-9CD7-AC4C3BC835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7.jpg"/>
          <p:cNvPicPr/>
          <p:nvPr/>
        </p:nvPicPr>
        <p:blipFill>
          <a:blip r:embed="rId1"/>
          <a:stretch/>
        </p:blipFill>
        <p:spPr>
          <a:xfrm>
            <a:off x="6072120" y="1714680"/>
            <a:ext cx="252108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Title 1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418600" cy="1212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71360" y="3428640"/>
            <a:ext cx="7072200" cy="251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,,Carte frumoasă, cinste cui te-a scris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Încet gândită, gingaş cumpănită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Eşti ca o floare, anume înflorit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Mâinilor mele, care te-au deschis.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Tudor Arghezi – 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Ex libri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Rall\Local Settings\Temporary Internet Files\Content.IE5\OP8DQ1UD\MC910215926[2].jpg"/>
          <p:cNvPicPr/>
          <p:nvPr/>
        </p:nvPicPr>
        <p:blipFill>
          <a:blip r:embed="rId1"/>
          <a:stretch/>
        </p:blipFill>
        <p:spPr>
          <a:xfrm>
            <a:off x="3786120" y="2286000"/>
            <a:ext cx="2687760" cy="2708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Definiţii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rtea este un univers magic, </a:t>
            </a: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în care marii visători ai umanităţii au transmis generaţiilor următoare zestrea lor de gânduri şi de sentimen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o lume în aşteptare. Când o deschide, cititorul dă viaţă spiritelor ei vrăjite şi cartea începe să trăias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purtătoarea peste milenii a înţelepciunii şi a cunoaşterii umane, un obiect de cultură deopotrivă de important în toate domeniile: literatură, artă, ştiinţă, tehni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Ştiaţi că...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Imaginaţia omului a descoperit de-a lungul timpului cele mai diferite moduri de realizare a cărţil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Hârtia a fost descoperită în secolul I e.n., în Chin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la noi, hârtia a apărut mai întâi în Transilvania, în secolul al XIV-lea, apoi în Moldova şi în Ţara Româneasc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2" descr="C:\Documents and Settings\Rall\Local Settings\Temporary Internet Files\Content.IE5\SZK1KRYT\dglxasset[4].aspx"/>
          <p:cNvPicPr/>
          <p:nvPr/>
        </p:nvPicPr>
        <p:blipFill>
          <a:blip r:embed="rId1"/>
          <a:stretch/>
        </p:blipFill>
        <p:spPr>
          <a:xfrm>
            <a:off x="7000920" y="5072040"/>
            <a:ext cx="18460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Rall\Local Settings\Temporary Internet Files\Content.IE5\SZK1KRYT\dglxasset[5].aspx"/>
          <p:cNvPicPr/>
          <p:nvPr/>
        </p:nvPicPr>
        <p:blipFill>
          <a:blip r:embed="rId1"/>
          <a:stretch/>
        </p:blipFill>
        <p:spPr>
          <a:xfrm>
            <a:off x="6929280" y="4214880"/>
            <a:ext cx="200052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toricul scrier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7200" y="1213920"/>
            <a:ext cx="749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S-au folosit ca materiale suport pentru scriere: piatra, fildeşul, metalele, lemnul, scoarţa, frunza copacilor, tăbliţele de piatră, de lut sau cerate, plăcuţele de bambus, pânza şi mătasea, papirusul, pergamentul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Cărţile se scriau de mână, circulau ca manuscrise; de multe ori aveau ornamente bogate şi legături de mare preţ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Tiparul a fost inventat în jurul anului 1440 de germanul Johannes Gutenberg.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Astăzi, cărţile sunt tipărite cu tehnologii moderne, calculatorul având un rol important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5" descr="C:\Documents and Settings\Rall\Local Settings\Temporary Internet Files\Content.IE5\SZK1KRYT\dglxasset[6].aspx"/>
          <p:cNvPicPr/>
          <p:nvPr/>
        </p:nvPicPr>
        <p:blipFill>
          <a:blip r:embed="rId2"/>
          <a:stretch/>
        </p:blipFill>
        <p:spPr>
          <a:xfrm>
            <a:off x="1071720" y="0"/>
            <a:ext cx="857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Părţile componente ale cărţ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359000" y="1444680"/>
            <a:ext cx="7589880" cy="480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Documents and Settings\Rall\Local Settings\Temporary Internet Files\Content.IE5\OP8DQ1UD\MC900413638[1].wmf"/>
          <p:cNvPicPr/>
          <p:nvPr/>
        </p:nvPicPr>
        <p:blipFill>
          <a:blip r:embed="rId2"/>
          <a:stretch/>
        </p:blipFill>
        <p:spPr>
          <a:xfrm>
            <a:off x="1143000" y="357120"/>
            <a:ext cx="83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17:15Z</dcterms:created>
  <dc:creator>Rall</dc:creator>
  <dc:description/>
  <dc:language>en-US</dc:language>
  <cp:lastModifiedBy>Rall</cp:lastModifiedBy>
  <dcterms:modified xsi:type="dcterms:W3CDTF">2010-09-03T13:08:19Z</dcterms:modified>
  <cp:revision>5</cp:revision>
  <dc:subject/>
  <dc:title>Cartea – obiect cultural</dc:title>
</cp:coreProperties>
</file>