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image1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2F3-D754-4FF0-BA0A-89C51DAD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242-D061-4BCF-ABEB-B284A58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15C-F8DA-4FF4-930F-13D7BA71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AF5-DAAF-4525-8E3B-789486B3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E517-1DF6-4F9E-960F-D16270B6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4007-E1B6-4172-872A-5B6610D8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B901-6F16-4CDB-8A92-59CCD287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8E15-9182-4C54-920E-0F85904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CF07-F39A-4FFF-9683-2C9212AD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DCA9-5F7A-4181-9673-9B45B76E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C209-34B7-4AC8-87B0-142F75F9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710-D091-4824-A87D-A2F81918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D51E-FA81-423F-AE29-65933432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5249-4352-4374-B8B8-CE339DC3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90AD-65A0-4FD5-9EFF-811BE42C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BB8C-F6CB-449E-A56B-3A1E39BF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41C5-E00F-4206-B14F-B0FECA0A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BA99-E438-4707-93FB-824BF776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C4D9-AB21-41FD-85E2-C1EF34BA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810B-469F-4A15-9E9D-34CACE82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CF33-158D-4FB7-9F8B-449D50E5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7B29-A3FA-4418-A704-EB93AB40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BC3-5F61-4578-A8B3-39036E6A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763D-71BD-43FD-9012-F55940C4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5793-A059-43DD-9DCD-1C776D24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2458-0E89-4C56-A1E3-113658C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813C-5399-4C3E-AF9E-44F3B467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B323-253D-4245-AAAA-3AAB74E3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7166-85CD-4765-A23B-863EBAB9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EC6F-2602-41F9-B04E-219D7CE8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18499-C673-4D50-B9C2-D00F3322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6881-E884-4575-8EA3-687E9CDA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8345-7BD1-4EA4-8DC5-A8E47E8A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377-D881-436E-AE02-BF4528F5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0A6D-3293-4889-815D-E9D69A33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3037A-C98C-43FB-B478-1272D1C9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0EA53-4FFE-4A70-B38D-4EB018C9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2BBBF-B3F6-44E6-ACD0-024477A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E6D5-134F-4834-92FF-97AD45E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3D3C-DE9F-4905-9AD5-88D1C7C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C872-FC6C-46CE-87CF-9C9C2A2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8AC3-32F8-4F9C-9499-BA21DD47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5A51C-1BC9-4B35-97AE-311025AE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D8C6-DBB0-422D-A8AA-4AB2B6D6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6BA-9F3A-44D1-AC1A-F3019AB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3CFCE-4423-47D9-9AF4-8EDFC99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198C-7B4C-425B-908A-796FF810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F2EA-8D6B-4180-A733-660C7F6B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A13EC-35D0-424F-ADF9-FFF51CCD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437CF-C2E1-42A4-AB8C-72C40E43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BE1BF-9F53-4F44-B431-3924A6D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A3743-E0C2-4DB9-AEF4-8CFF6E3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FDE7F-5C7A-4CBE-8440-2CCB45A7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F911D-8BCB-4855-8962-CDE115CF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31C3-B907-42D1-A8A8-D09E8B40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DDC-A47F-4142-BAB1-5A63C10D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65567-664B-4B2B-82B3-733C2202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38108-EF97-4528-BAE5-161346F3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DFD9-77B8-4BC5-BF00-401D5425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56900-7894-40E8-8D54-DE92FFE0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4B304-B0DC-48FB-AE35-F03E04C4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86515-49B3-43BF-B558-5B652CC6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36273-88BC-43C8-B068-C9653040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5A6D-C7F1-4178-BDF8-3F3143DD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942C-18F1-4FE2-A0D2-5271BC6A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D773B-8AAF-4B9E-AF74-CB75044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143-6AC2-4D2A-A89D-5EAD6292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C051-9E01-4E86-9A94-01E45FB3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4AE56-4E13-4C53-A555-B72C55F8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1BA33-44DF-4A36-858E-4E8F3474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29816-9904-4774-995D-007455CF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616AB-C8AF-4045-8125-EE1704B0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BDB89-7672-4434-AB6C-DD18791A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6DA5C-2C83-464C-8429-FAD7CEB6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C548A-17CA-4F2E-B17D-05C331F8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542BF-773A-41B3-8945-F56B85FE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E07FC-5142-4682-9CCF-78CEDA50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1A1-0898-49FD-A57A-0501D2A4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13115-3366-451E-AF6E-E55C460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BFF78-F6FF-4773-B651-39D01E3E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D08EF-A111-4BD4-946B-29F22C2B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92B89-2B3B-4BC4-82A1-88061FFA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C3871-5647-499A-893F-68F8C52E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929-964A-4812-9AB3-5857670B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5FDC-A9BD-4CD7-9626-2ADCCBCCB4C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F16B-83A7-45BF-953E-2E26B28E380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3CC7-401C-486C-8F05-839D7B2E0C9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5C19-F636-4593-8F62-FA510B0E48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49B-32F2-48F5-8BA1-EF4F5429930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6109-CDA2-4A3B-A28A-B1ACDC69CC2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A8A2-5EE7-4FD6-B086-40D7001B6BB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7.jpg"/>
          <p:cNvPicPr/>
          <p:nvPr/>
        </p:nvPicPr>
        <p:blipFill>
          <a:blip r:embed="rId1"/>
          <a:stretch/>
        </p:blipFill>
        <p:spPr>
          <a:xfrm>
            <a:off x="6072120" y="1714680"/>
            <a:ext cx="2521080" cy="3286080"/>
          </a:xfrm>
          <a:prstGeom prst="rect">
            <a:avLst/>
          </a:prstGeom>
          <a:ln w="0">
            <a:noFill/>
          </a:ln>
        </p:spPr>
      </p:pic>
      <p:pic>
        <p:nvPicPr>
          <p:cNvPr id="319" name="Title 1" descr=""/>
          <p:cNvPicPr/>
          <p:nvPr/>
        </p:nvPicPr>
        <p:blipFill>
          <a:blip r:embed="rId2"/>
          <a:stretch/>
        </p:blipFill>
        <p:spPr>
          <a:xfrm>
            <a:off x="585720" y="476280"/>
            <a:ext cx="8418600" cy="1212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71360" y="3428640"/>
            <a:ext cx="7072200" cy="2514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,,Carte frumoasă, cinste cui te-a scris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Încet gândită, gingaş cumpănită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Eşti ca o floare, anume înflorit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320e04"/>
                </a:solidFill>
                <a:latin typeface="Gill Sans MT"/>
              </a:rPr>
              <a:t>Mâinilor mele, care te-au deschis.</a:t>
            </a: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                                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(Tudor Arghezi – </a:t>
            </a: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Ex libri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Documents and Settings\Rall\Local Settings\Temporary Internet Files\Content.IE5\OP8DQ1UD\MC910215926[2].jpg"/>
          <p:cNvPicPr/>
          <p:nvPr/>
        </p:nvPicPr>
        <p:blipFill>
          <a:blip r:embed="rId1"/>
          <a:stretch/>
        </p:blipFill>
        <p:spPr>
          <a:xfrm>
            <a:off x="3786120" y="2286000"/>
            <a:ext cx="2687760" cy="27082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Definiţii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artea este un univers magic, </a:t>
            </a: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în care marii visători ai umanităţii au transmis generaţiilor următoare zestrea lor de gânduri şi de sentiment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Cartea este o lume în aşteptare. Când o deschide, cititorul dă viaţă spiritelor ei vrăjite şi cartea începe să trăiască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Gill Sans MT"/>
              </a:rPr>
              <a:t>Cartea este purtătoarea peste milenii a înţelepciunii şi a cunoaşterii umane, un obiect de cultură deopotrivă de important în toate domeniile: literatură, artă, ştiinţă, tehnică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Ştiaţi că...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Imaginaţia omului a descoperit de-a lungul timpului cele mai diferite moduri de realizare a cărţil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Hârtia a fost descoperită în secolul I e.n., în Chin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Gill Sans MT"/>
              </a:rPr>
              <a:t>la noi, hârtia a apărut mai întâi în Transilvania, în secolul al XIV-lea, apoi în Moldova şi în Ţara Româneasc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2" descr="C:\Documents and Settings\Rall\Local Settings\Temporary Internet Files\Content.IE5\SZK1KRYT\dglxasset[4].aspx"/>
          <p:cNvPicPr/>
          <p:nvPr/>
        </p:nvPicPr>
        <p:blipFill>
          <a:blip r:embed="rId1"/>
          <a:stretch/>
        </p:blipFill>
        <p:spPr>
          <a:xfrm>
            <a:off x="7000920" y="5072040"/>
            <a:ext cx="18460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Rall\Local Settings\Temporary Internet Files\Content.IE5\SZK1KRYT\dglxasset[5].aspx"/>
          <p:cNvPicPr/>
          <p:nvPr/>
        </p:nvPicPr>
        <p:blipFill>
          <a:blip r:embed="rId1"/>
          <a:stretch/>
        </p:blipFill>
        <p:spPr>
          <a:xfrm>
            <a:off x="6929280" y="4214880"/>
            <a:ext cx="2000520" cy="25146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storicul scrier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57200" y="1213920"/>
            <a:ext cx="7499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S-au folosit ca materiale suport pentru scriere: piatra, fildeşul, metalele, lemnul, scoarţa, frunza copacilor, tăbliţele de piatră, de lut sau cerate, plăcuţele de bambus, pânza şi mătasea, papirusul, pergamentul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Cărţile se scriau de mână, circulau ca manuscrise; de multe ori aveau ornamente bogate şi legături de mare preţ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Tiparul a fost inventat în jurul anului 1440 de germanul Johannes Gutenberg. 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Gill Sans MT"/>
              </a:rPr>
              <a:t>Astăzi, cărţile sunt tipărite cu tehnologii moderne, calculatorul având un rol important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5" descr="C:\Documents and Settings\Rall\Local Settings\Temporary Internet Files\Content.IE5\SZK1KRYT\dglxasset[6].aspx"/>
          <p:cNvPicPr/>
          <p:nvPr/>
        </p:nvPicPr>
        <p:blipFill>
          <a:blip r:embed="rId2"/>
          <a:stretch/>
        </p:blipFill>
        <p:spPr>
          <a:xfrm>
            <a:off x="1071720" y="0"/>
            <a:ext cx="857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300" spc="-1" strike="noStrike">
                <a:solidFill>
                  <a:srgbClr val="572314"/>
                </a:solidFill>
                <a:latin typeface="Gill Sans MT"/>
              </a:rPr>
              <a:t>Părţile componente ale cărţ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1359000" y="1444680"/>
            <a:ext cx="7589880" cy="4809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Documents and Settings\Rall\Local Settings\Temporary Internet Files\Content.IE5\OP8DQ1UD\MC900413638[1].wmf"/>
          <p:cNvPicPr/>
          <p:nvPr/>
        </p:nvPicPr>
        <p:blipFill>
          <a:blip r:embed="rId2"/>
          <a:stretch/>
        </p:blipFill>
        <p:spPr>
          <a:xfrm>
            <a:off x="1143000" y="357120"/>
            <a:ext cx="833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1:17:15Z</dcterms:created>
  <dc:creator>Rall</dc:creator>
  <dc:description/>
  <dc:language>en-US</dc:language>
  <cp:lastModifiedBy>Rall</cp:lastModifiedBy>
  <dcterms:modified xsi:type="dcterms:W3CDTF">2010-09-03T13:08:19Z</dcterms:modified>
  <cp:revision>5</cp:revision>
  <dc:subject/>
  <dc:title>Cartea – obiect cultural</dc:title>
</cp:coreProperties>
</file>