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wmf" ContentType="image/x-wmf"/>
  <Override PartName="/ppt/media/image1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5BC-8D44-4C9D-8BA8-FAFAC5F9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2B3-60FB-4ADA-B909-121FDC1D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143-7054-4911-99D4-763B62A9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62C-BD66-4750-92E3-5CD164F1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6B6E-0465-4F51-B46B-B19C1F4F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3DBA-0550-4598-8550-77A7C706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3F57-E2B4-4B1C-B535-2F41B9C8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B7A2-D9EF-43B7-BFF4-1CD4700E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3E0B-58FF-43BB-9D1F-E6CA7A6B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D806-AAF3-4BD8-B68B-6BD122EB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61D2-6815-48A1-8956-AF35765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160-C122-4C54-959F-9B9ABE43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C38D-7658-4652-B5EC-A5BB16FC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5AA5-6A63-428A-8C8C-EC22551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02BE-790D-4184-8145-24125743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4535-9F7F-4ED6-8662-4174B3F1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D302-FD26-4CE2-8C25-AF683267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7D08-6443-4BDB-838E-A029844E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C6E5-B872-42A6-AC21-BF30120F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2C6D1-E2B0-4D94-8D4C-DAA15597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D3A2-09D8-4BA5-A412-901D1602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3C37-4A99-44A4-A1C9-33B83AA9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C6C-D7DA-49CB-8245-45BFA473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7D779-93B2-4812-AC56-CDAFD68C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EB685-365E-4FF6-9B5B-60106E18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487E-AA43-40E4-ABB1-534FF68E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ED3E-8328-4508-B4BE-6E5EAB72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CE8E-A328-48AF-918F-C7550DB3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7FCB-0202-45EC-A5A3-BC60426B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200C-1858-4A16-8BFA-5B29BDBF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A5DEC-922A-4D8E-AA1A-A9852FB3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B4152-424C-44B0-BE2C-97EF2154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C704-FAD5-4F18-8849-51CC50E1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39A-8014-40A1-A527-3AA13F80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E171C-46C0-46E1-9D52-3A6ADB73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CADE7-CB90-4D5F-B409-CD003D25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DA15E-B7C2-4E20-AB4B-3D6E0526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81C41-9E2A-4873-A76D-276E6A4F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7110-1618-4182-ABFC-5BA53C93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A1E2C-2ABC-40A9-B0DD-0028DB8E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2F22C-CA02-41BD-BB16-938180D3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B5144-E70C-4828-8173-B5E25744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FA463-3438-4362-9EC8-E6F4B573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C7799-AD13-4930-ABAC-F1257FAE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D3E-9E99-4116-B86C-C0713EFC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E8DEC-0EE6-4D35-AFDB-8934F8F0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BD785-17F7-4E98-B301-1CC14151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E9930-6678-4341-8A28-CC2829D6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3E648-A6A5-4613-A09C-61920CD4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1B1F1-1955-49D1-B688-94517D68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5EC8C-BA3C-455E-9305-09D52AFA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39919-F870-4AD4-A6D3-CA3A8836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8CC37-6BC1-4CC0-80E1-927A89B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863E6-730E-4FE6-9287-B1D538CB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27C7E-318F-403A-BBAA-F48FB7FA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44A-3082-4D58-8956-8110D765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1329A-7591-4B20-BDC6-C69C3574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16F49-703E-4E52-8251-FFE2DA04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13314-2CD3-47A9-B019-0810740C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453BA-06C7-40DF-8788-73F71D14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ABC09-E903-48D6-AD91-9660FCE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6F9D0-6EA0-4AB1-ABB9-7467AC06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83D16-E56E-4104-902E-0FF4CC05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B08A7-5A1B-44D9-930F-FFCD7EB8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89B0F-ADE2-43B8-82AC-675A5CFE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6A1A2-B7ED-4CAD-AB72-849FA0B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334-F7FF-4494-965D-A4BAE66A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837BD-FBCE-4695-8A50-8AF2900A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A9E63-8A69-4346-9ED3-DDC8CBC5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E0572-8423-430A-B121-5AB745F8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D9636-816D-4827-8B96-4AA93FB7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5C308-8BD7-4855-BD47-EF86592D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AAFA3-1269-4A05-BBAE-E551649B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FC651-7870-46C0-81B7-C0A9B659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EF00A-E399-423E-9CC7-C14147D7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B7CF5-6CC2-46D7-9FD2-5A35C428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F57F2-3C61-48A4-8296-E0258955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37D-EEF9-4B3D-ADAD-847FD63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D40FF-C739-4195-96A6-99079302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04753-1108-4910-9095-708F2BDB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3F47E-C29E-4B1B-BB00-B031BE28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0E418-3B0A-42A2-9320-D9119F9A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FC79C-85F3-4CBF-B09C-318A4963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660-4288-4752-9A26-B326AABF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33CA-2321-4D4D-BF55-63C13F359D5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8DBE-B06D-4880-BD12-529F7C23008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56D4-9ACE-4C60-BE0D-205E7626C44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6FFC-C0D4-49A2-983D-131672EE530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9460-90AF-45B4-BDA8-93B021931D7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C574-1EF1-4157-8FB0-B5C6F57520A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0404-D28F-4803-8197-DAF0E2723FC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7.jpg"/>
          <p:cNvPicPr/>
          <p:nvPr/>
        </p:nvPicPr>
        <p:blipFill>
          <a:blip r:embed="rId1"/>
          <a:stretch/>
        </p:blipFill>
        <p:spPr>
          <a:xfrm>
            <a:off x="6072120" y="1714680"/>
            <a:ext cx="2521080" cy="3286080"/>
          </a:xfrm>
          <a:prstGeom prst="rect">
            <a:avLst/>
          </a:prstGeom>
          <a:ln w="0">
            <a:noFill/>
          </a:ln>
        </p:spPr>
      </p:pic>
      <p:pic>
        <p:nvPicPr>
          <p:cNvPr id="319" name="Title 1" descr=""/>
          <p:cNvPicPr/>
          <p:nvPr/>
        </p:nvPicPr>
        <p:blipFill>
          <a:blip r:embed="rId2"/>
          <a:stretch/>
        </p:blipFill>
        <p:spPr>
          <a:xfrm>
            <a:off x="585720" y="476280"/>
            <a:ext cx="8418600" cy="12128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71360" y="3428640"/>
            <a:ext cx="7072200" cy="2514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,,Carte frumoasă, cinste cui te-a scris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Încet gândită, gingaş cumpănită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Eşti ca o floare, anume înflorit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Mâinilor mele, care te-au deschis.</a:t>
            </a:r>
            <a:r>
              <a:rPr b="0" i="1" lang="en-US" sz="2600" spc="-1" strike="noStrike">
                <a:solidFill>
                  <a:srgbClr val="320e04"/>
                </a:solidFill>
                <a:latin typeface="Gill Sans MT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(Tudor Arghezi – </a:t>
            </a:r>
            <a:r>
              <a:rPr b="0" i="1" lang="en-US" sz="2600" spc="-1" strike="noStrike">
                <a:solidFill>
                  <a:srgbClr val="320e04"/>
                </a:solidFill>
                <a:latin typeface="Gill Sans MT"/>
              </a:rPr>
              <a:t>Ex libri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Documents and Settings\Rall\Local Settings\Temporary Internet Files\Content.IE5\OP8DQ1UD\MC910215926[2].jpg"/>
          <p:cNvPicPr/>
          <p:nvPr/>
        </p:nvPicPr>
        <p:blipFill>
          <a:blip r:embed="rId1"/>
          <a:stretch/>
        </p:blipFill>
        <p:spPr>
          <a:xfrm>
            <a:off x="3786120" y="2286000"/>
            <a:ext cx="2687760" cy="27082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300" spc="-1" strike="noStrike">
                <a:solidFill>
                  <a:srgbClr val="572314"/>
                </a:solidFill>
                <a:latin typeface="Gill Sans MT"/>
              </a:rPr>
              <a:t>Definiţii.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artea este un univers magic, </a:t>
            </a:r>
            <a:r>
              <a:rPr b="0" lang="ro-RO" sz="3000" spc="-1" strike="noStrike">
                <a:solidFill>
                  <a:srgbClr val="000000"/>
                </a:solidFill>
                <a:latin typeface="Gill Sans MT"/>
              </a:rPr>
              <a:t>în care marii visători ai umanităţii au transmis generaţiilor următoare zestrea lor de gânduri şi de sentiment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Gill Sans MT"/>
              </a:rPr>
              <a:t>Cartea este o lume în aşteptare. Când o deschide, cititorul dă viaţă spiritelor ei vrăjite şi cartea începe să trăiască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Gill Sans MT"/>
              </a:rPr>
              <a:t>Cartea este purtătoarea peste milenii a înţelepciunii şi a cunoaşterii umane, un obiect de cultură deopotrivă de important în toate domeniile: literatură, artă, ştiinţă, tehnică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300" spc="-1" strike="noStrike">
                <a:solidFill>
                  <a:srgbClr val="572314"/>
                </a:solidFill>
                <a:latin typeface="Gill Sans MT"/>
              </a:rPr>
              <a:t>Ştiaţi că...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Gill Sans MT"/>
              </a:rPr>
              <a:t>Imaginaţia omului a descoperit de-a lungul timpului cele mai diferite moduri de realizare a cărţil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Gill Sans MT"/>
              </a:rPr>
              <a:t>Hârtia a fost descoperită în secolul I e.n., în Chin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Gill Sans MT"/>
              </a:rPr>
              <a:t>la noi, hârtia a apărut mai întâi în Transilvania, în secolul al XIV-lea, apoi în Moldova şi în Ţara Româneasc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2" descr="C:\Documents and Settings\Rall\Local Settings\Temporary Internet Files\Content.IE5\SZK1KRYT\dglxasset[4].aspx"/>
          <p:cNvPicPr/>
          <p:nvPr/>
        </p:nvPicPr>
        <p:blipFill>
          <a:blip r:embed="rId1"/>
          <a:stretch/>
        </p:blipFill>
        <p:spPr>
          <a:xfrm>
            <a:off x="7000920" y="5072040"/>
            <a:ext cx="18460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Rall\Local Settings\Temporary Internet Files\Content.IE5\SZK1KRYT\dglxasset[5].aspx"/>
          <p:cNvPicPr/>
          <p:nvPr/>
        </p:nvPicPr>
        <p:blipFill>
          <a:blip r:embed="rId1"/>
          <a:stretch/>
        </p:blipFill>
        <p:spPr>
          <a:xfrm>
            <a:off x="6929280" y="4214880"/>
            <a:ext cx="2000520" cy="25146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storicul scrier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57200" y="1213920"/>
            <a:ext cx="7499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S-au folosit ca materiale suport pentru scriere: piatra, fildeşul, metalele, lemnul, scoarţa, frunza copacilor, tăbliţele de piatră, de lut sau cerate, plăcuţele de bambus, pânza şi mătasea, papirusul, pergamentul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Cărţile se scriau de mână, circulau ca manuscrise; de multe ori aveau ornamente bogate şi legături de mare preţ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Tiparul a fost inventat în jurul anului 1440 de germanul Johannes Gutenberg. 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Astăzi, cărţile sunt tipărite cu tehnologii moderne, calculatorul având un rol important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Picture 5" descr="C:\Documents and Settings\Rall\Local Settings\Temporary Internet Files\Content.IE5\SZK1KRYT\dglxasset[6].aspx"/>
          <p:cNvPicPr/>
          <p:nvPr/>
        </p:nvPicPr>
        <p:blipFill>
          <a:blip r:embed="rId2"/>
          <a:stretch/>
        </p:blipFill>
        <p:spPr>
          <a:xfrm>
            <a:off x="1071720" y="0"/>
            <a:ext cx="857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300" spc="-1" strike="noStrike">
                <a:solidFill>
                  <a:srgbClr val="572314"/>
                </a:solidFill>
                <a:latin typeface="Gill Sans MT"/>
              </a:rPr>
              <a:t>Părţile componente ale cărţ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2" name="Content Placeholder 3" descr=""/>
          <p:cNvPicPr/>
          <p:nvPr/>
        </p:nvPicPr>
        <p:blipFill>
          <a:blip r:embed="rId1"/>
          <a:stretch/>
        </p:blipFill>
        <p:spPr>
          <a:xfrm>
            <a:off x="1359000" y="1444680"/>
            <a:ext cx="7589880" cy="4809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Documents and Settings\Rall\Local Settings\Temporary Internet Files\Content.IE5\OP8DQ1UD\MC900413638[1].wmf"/>
          <p:cNvPicPr/>
          <p:nvPr/>
        </p:nvPicPr>
        <p:blipFill>
          <a:blip r:embed="rId2"/>
          <a:stretch/>
        </p:blipFill>
        <p:spPr>
          <a:xfrm>
            <a:off x="1143000" y="357120"/>
            <a:ext cx="8334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1:17:15Z</dcterms:created>
  <dc:creator>Rall</dc:creator>
  <dc:description/>
  <dc:language>en-US</dc:language>
  <cp:lastModifiedBy>Rall</cp:lastModifiedBy>
  <dcterms:modified xsi:type="dcterms:W3CDTF">2010-09-03T13:08:19Z</dcterms:modified>
  <cp:revision>5</cp:revision>
  <dc:subject/>
  <dc:title>Cartea – obiect cultural</dc:title>
</cp:coreProperties>
</file>